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490-492C-403A-A984-1C7A2BC7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D5A-3296-4BB8-9DD9-5847B88C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9CD-C09A-4956-B3F1-D0F3EB5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603-AC9E-44D2-912E-B9D8C4B6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6D8-B82D-4CCC-91CC-A3790DBE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440-9A46-4BAE-B154-3102F70B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184-1105-4D58-A607-BB1B3B1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C6A-E5E3-4E17-9244-B4323E47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C3C-3601-4D6E-A150-5CF93E4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A60-0472-4846-A8A6-8FB7BCE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ABE-E2B1-43C5-9217-8585511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4B7-24C1-44DE-9AF4-28F56C4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1A6-3789-4D8A-9029-B4ACC936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Opener:  Solve the expressions below using d = 3.8, e = 13.03 and f =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 +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f -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e -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e +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34640" y="628668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5375" y="17462"/>
                </a:moveTo>
                <a:cubicBezTo>
                  <a:pt x="25375" y="17470"/>
                  <a:pt x="25375" y="17479"/>
                  <a:pt x="25375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5040" y="2867040"/>
            <a:ext cx="795240" cy="357120"/>
          </a:xfrm>
          <a:custGeom>
            <a:avLst/>
            <a:gdLst/>
            <a:ahLst/>
            <a:rect l="l" t="t" r="r" b="b"/>
            <a:pathLst>
              <a:path w="2208" h="993">
                <a:moveTo>
                  <a:pt x="9451" y="8012"/>
                </a:moveTo>
                <a:cubicBezTo>
                  <a:pt x="9521" y="8012"/>
                  <a:pt x="9508" y="7982"/>
                  <a:pt x="9575" y="7962"/>
                </a:cubicBezTo>
                <a:cubicBezTo>
                  <a:pt x="9655" y="8138"/>
                  <a:pt x="9608" y="8234"/>
                  <a:pt x="9525" y="8409"/>
                </a:cubicBezTo>
                <a:cubicBezTo>
                  <a:pt x="9568" y="8264"/>
                  <a:pt x="9726" y="8309"/>
                  <a:pt x="9723" y="8483"/>
                </a:cubicBezTo>
                <a:cubicBezTo>
                  <a:pt x="9720" y="8669"/>
                  <a:pt x="9542" y="8852"/>
                  <a:pt x="9376" y="8706"/>
                </a:cubicBezTo>
                <a:cubicBezTo>
                  <a:pt x="9368" y="8690"/>
                  <a:pt x="9359" y="8673"/>
                  <a:pt x="9351" y="8657"/>
                </a:cubicBezTo>
              </a:path>
              <a:path w="2208" h="993">
                <a:moveTo>
                  <a:pt x="9054" y="8136"/>
                </a:moveTo>
                <a:lnTo>
                  <a:pt x="9054" y="8136"/>
                </a:lnTo>
              </a:path>
              <a:path w="2208" h="993">
                <a:moveTo>
                  <a:pt x="9079" y="8136"/>
                </a:moveTo>
                <a:cubicBezTo>
                  <a:pt x="8988" y="8113"/>
                  <a:pt x="8894" y="8086"/>
                  <a:pt x="8806" y="8136"/>
                </a:cubicBezTo>
                <a:cubicBezTo>
                  <a:pt x="8798" y="8144"/>
                  <a:pt x="8789" y="8153"/>
                  <a:pt x="8781" y="8161"/>
                </a:cubicBezTo>
                <a:cubicBezTo>
                  <a:pt x="8792" y="8333"/>
                  <a:pt x="8838" y="8425"/>
                  <a:pt x="8954" y="8558"/>
                </a:cubicBezTo>
                <a:cubicBezTo>
                  <a:pt x="9041" y="8657"/>
                  <a:pt x="9114" y="8733"/>
                  <a:pt x="8954" y="8781"/>
                </a:cubicBezTo>
                <a:cubicBezTo>
                  <a:pt x="8921" y="8789"/>
                  <a:pt x="8888" y="8798"/>
                  <a:pt x="8855" y="8806"/>
                </a:cubicBezTo>
                <a:cubicBezTo>
                  <a:pt x="8812" y="8593"/>
                  <a:pt x="8872" y="8475"/>
                  <a:pt x="8979" y="8285"/>
                </a:cubicBezTo>
                <a:cubicBezTo>
                  <a:pt x="9025" y="8216"/>
                  <a:pt x="9047" y="8195"/>
                  <a:pt x="8979" y="8161"/>
                </a:cubicBezTo>
              </a:path>
              <a:path w="2208" h="993">
                <a:moveTo>
                  <a:pt x="7987" y="8111"/>
                </a:moveTo>
                <a:cubicBezTo>
                  <a:pt x="7944" y="8263"/>
                  <a:pt x="7863" y="8449"/>
                  <a:pt x="7863" y="8607"/>
                </a:cubicBezTo>
                <a:cubicBezTo>
                  <a:pt x="7863" y="8709"/>
                  <a:pt x="7880" y="8818"/>
                  <a:pt x="7987" y="8855"/>
                </a:cubicBezTo>
                <a:cubicBezTo>
                  <a:pt x="8064" y="8882"/>
                  <a:pt x="8155" y="8827"/>
                  <a:pt x="8210" y="8781"/>
                </a:cubicBezTo>
                <a:cubicBezTo>
                  <a:pt x="8259" y="8739"/>
                  <a:pt x="8358" y="8638"/>
                  <a:pt x="8334" y="8558"/>
                </a:cubicBezTo>
                <a:cubicBezTo>
                  <a:pt x="8320" y="8512"/>
                  <a:pt x="8216" y="8504"/>
                  <a:pt x="8186" y="8533"/>
                </a:cubicBezTo>
                <a:cubicBezTo>
                  <a:pt x="8072" y="8640"/>
                  <a:pt x="8148" y="8772"/>
                  <a:pt x="8186" y="8880"/>
                </a:cubicBezTo>
                <a:cubicBezTo>
                  <a:pt x="8186" y="8888"/>
                  <a:pt x="8186" y="8897"/>
                  <a:pt x="8186" y="8905"/>
                </a:cubicBezTo>
              </a:path>
              <a:path w="2208" h="993">
                <a:moveTo>
                  <a:pt x="8533" y="8706"/>
                </a:moveTo>
                <a:cubicBezTo>
                  <a:pt x="8514" y="8764"/>
                  <a:pt x="8505" y="8771"/>
                  <a:pt x="8508" y="8806"/>
                </a:cubicBezTo>
                <a:cubicBezTo>
                  <a:pt x="8603" y="8752"/>
                  <a:pt x="8581" y="8608"/>
                  <a:pt x="8533" y="8756"/>
                </a:cubicBezTo>
                <a:cubicBezTo>
                  <a:pt x="8533" y="8773"/>
                  <a:pt x="8533" y="8789"/>
                  <a:pt x="8533" y="8806"/>
                </a:cubicBezTo>
              </a:path>
              <a:path w="2208" h="993">
                <a:moveTo>
                  <a:pt x="7516" y="8285"/>
                </a:moveTo>
                <a:cubicBezTo>
                  <a:pt x="7516" y="8244"/>
                  <a:pt x="7516" y="8202"/>
                  <a:pt x="7516" y="8161"/>
                </a:cubicBezTo>
                <a:cubicBezTo>
                  <a:pt x="7546" y="8415"/>
                  <a:pt x="7535" y="8651"/>
                  <a:pt x="7516" y="8905"/>
                </a:cubicBezTo>
                <a:cubicBezTo>
                  <a:pt x="7516" y="8921"/>
                  <a:pt x="7516" y="8938"/>
                  <a:pt x="7516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46800" y="1839960"/>
            <a:ext cx="1117440" cy="1714320"/>
          </a:xfrm>
          <a:custGeom>
            <a:avLst/>
            <a:gdLst/>
            <a:ahLst/>
            <a:rect l="l" t="t" r="r" b="b"/>
            <a:pathLst>
              <a:path w="3101" h="4763">
                <a:moveTo>
                  <a:pt x="16594" y="6796"/>
                </a:moveTo>
                <a:cubicBezTo>
                  <a:pt x="16613" y="6683"/>
                  <a:pt x="16628" y="6575"/>
                  <a:pt x="16545" y="6474"/>
                </a:cubicBezTo>
                <a:cubicBezTo>
                  <a:pt x="16405" y="6302"/>
                  <a:pt x="16280" y="6535"/>
                  <a:pt x="16247" y="6648"/>
                </a:cubicBezTo>
                <a:cubicBezTo>
                  <a:pt x="16224" y="6783"/>
                  <a:pt x="16210" y="6821"/>
                  <a:pt x="16272" y="6896"/>
                </a:cubicBezTo>
                <a:cubicBezTo>
                  <a:pt x="16469" y="6873"/>
                  <a:pt x="16574" y="6826"/>
                  <a:pt x="16644" y="6623"/>
                </a:cubicBezTo>
                <a:cubicBezTo>
                  <a:pt x="16652" y="6582"/>
                  <a:pt x="16661" y="6540"/>
                  <a:pt x="16669" y="6499"/>
                </a:cubicBezTo>
                <a:cubicBezTo>
                  <a:pt x="16640" y="6748"/>
                  <a:pt x="16618" y="7004"/>
                  <a:pt x="16545" y="7243"/>
                </a:cubicBezTo>
              </a:path>
              <a:path w="3101" h="4763">
                <a:moveTo>
                  <a:pt x="15354" y="8062"/>
                </a:moveTo>
                <a:cubicBezTo>
                  <a:pt x="15505" y="8043"/>
                  <a:pt x="15648" y="8037"/>
                  <a:pt x="15801" y="8037"/>
                </a:cubicBezTo>
                <a:cubicBezTo>
                  <a:pt x="15809" y="8037"/>
                  <a:pt x="15817" y="8037"/>
                  <a:pt x="15825" y="8037"/>
                </a:cubicBezTo>
              </a:path>
              <a:path w="3101" h="4763">
                <a:moveTo>
                  <a:pt x="16396" y="7689"/>
                </a:moveTo>
                <a:cubicBezTo>
                  <a:pt x="16396" y="7843"/>
                  <a:pt x="16423" y="7676"/>
                  <a:pt x="16495" y="7640"/>
                </a:cubicBezTo>
                <a:cubicBezTo>
                  <a:pt x="16745" y="7515"/>
                  <a:pt x="16604" y="7882"/>
                  <a:pt x="16570" y="7962"/>
                </a:cubicBezTo>
                <a:cubicBezTo>
                  <a:pt x="16438" y="8019"/>
                  <a:pt x="16507" y="7918"/>
                  <a:pt x="16594" y="7913"/>
                </a:cubicBezTo>
                <a:cubicBezTo>
                  <a:pt x="16923" y="7894"/>
                  <a:pt x="16618" y="8297"/>
                  <a:pt x="16520" y="8359"/>
                </a:cubicBezTo>
                <a:cubicBezTo>
                  <a:pt x="16355" y="8421"/>
                  <a:pt x="16325" y="8455"/>
                  <a:pt x="16222" y="8409"/>
                </a:cubicBezTo>
                <a:cubicBezTo>
                  <a:pt x="16257" y="8267"/>
                  <a:pt x="16314" y="8222"/>
                  <a:pt x="16470" y="8285"/>
                </a:cubicBezTo>
                <a:cubicBezTo>
                  <a:pt x="16500" y="8315"/>
                  <a:pt x="16511" y="8329"/>
                  <a:pt x="16520" y="8359"/>
                </a:cubicBezTo>
              </a:path>
              <a:path w="3101" h="4763">
                <a:moveTo>
                  <a:pt x="17016" y="8285"/>
                </a:moveTo>
                <a:cubicBezTo>
                  <a:pt x="17049" y="8398"/>
                  <a:pt x="17180" y="8334"/>
                  <a:pt x="17140" y="8260"/>
                </a:cubicBezTo>
                <a:cubicBezTo>
                  <a:pt x="17100" y="8240"/>
                  <a:pt x="17093" y="8231"/>
                  <a:pt x="17066" y="8235"/>
                </a:cubicBezTo>
              </a:path>
              <a:path w="3101" h="4763">
                <a:moveTo>
                  <a:pt x="17611" y="7739"/>
                </a:moveTo>
                <a:cubicBezTo>
                  <a:pt x="17488" y="7730"/>
                  <a:pt x="17433" y="7757"/>
                  <a:pt x="17314" y="7813"/>
                </a:cubicBezTo>
                <a:cubicBezTo>
                  <a:pt x="17371" y="7987"/>
                  <a:pt x="17560" y="7947"/>
                  <a:pt x="17661" y="8086"/>
                </a:cubicBezTo>
                <a:cubicBezTo>
                  <a:pt x="17774" y="8241"/>
                  <a:pt x="17605" y="8309"/>
                  <a:pt x="17512" y="8359"/>
                </a:cubicBezTo>
                <a:cubicBezTo>
                  <a:pt x="17456" y="8158"/>
                  <a:pt x="17570" y="8099"/>
                  <a:pt x="17636" y="7913"/>
                </a:cubicBezTo>
                <a:cubicBezTo>
                  <a:pt x="17685" y="7774"/>
                  <a:pt x="17722" y="7678"/>
                  <a:pt x="17562" y="7714"/>
                </a:cubicBezTo>
              </a:path>
              <a:path w="3101" h="4763">
                <a:moveTo>
                  <a:pt x="15131" y="8632"/>
                </a:moveTo>
                <a:cubicBezTo>
                  <a:pt x="16012" y="8737"/>
                  <a:pt x="16859" y="8597"/>
                  <a:pt x="17735" y="8508"/>
                </a:cubicBezTo>
                <a:cubicBezTo>
                  <a:pt x="17923" y="8489"/>
                  <a:pt x="18057" y="8468"/>
                  <a:pt x="18231" y="8434"/>
                </a:cubicBezTo>
              </a:path>
              <a:path w="3101" h="4763">
                <a:moveTo>
                  <a:pt x="16818" y="7218"/>
                </a:moveTo>
                <a:cubicBezTo>
                  <a:pt x="16787" y="7097"/>
                  <a:pt x="16915" y="7307"/>
                  <a:pt x="16867" y="7169"/>
                </a:cubicBezTo>
                <a:cubicBezTo>
                  <a:pt x="16861" y="7152"/>
                  <a:pt x="16733" y="7274"/>
                  <a:pt x="16867" y="7193"/>
                </a:cubicBezTo>
              </a:path>
              <a:path w="3101" h="4763">
                <a:moveTo>
                  <a:pt x="17314" y="6573"/>
                </a:moveTo>
                <a:cubicBezTo>
                  <a:pt x="17165" y="6573"/>
                  <a:pt x="17143" y="6675"/>
                  <a:pt x="17140" y="6821"/>
                </a:cubicBezTo>
                <a:cubicBezTo>
                  <a:pt x="17163" y="6961"/>
                  <a:pt x="17166" y="7003"/>
                  <a:pt x="17239" y="7069"/>
                </a:cubicBezTo>
                <a:cubicBezTo>
                  <a:pt x="17491" y="7046"/>
                  <a:pt x="17700" y="6910"/>
                  <a:pt x="17611" y="6598"/>
                </a:cubicBezTo>
                <a:cubicBezTo>
                  <a:pt x="17563" y="6430"/>
                  <a:pt x="17407" y="6487"/>
                  <a:pt x="17289" y="6499"/>
                </a:cubicBezTo>
              </a:path>
              <a:path w="3101" h="4763">
                <a:moveTo>
                  <a:pt x="16942" y="7218"/>
                </a:moveTo>
                <a:cubicBezTo>
                  <a:pt x="17039" y="7238"/>
                  <a:pt x="17028" y="7260"/>
                  <a:pt x="17041" y="7169"/>
                </a:cubicBezTo>
                <a:cubicBezTo>
                  <a:pt x="17017" y="7151"/>
                  <a:pt x="16795" y="7075"/>
                  <a:pt x="16867" y="7218"/>
                </a:cubicBezTo>
                <a:cubicBezTo>
                  <a:pt x="16899" y="7282"/>
                  <a:pt x="17032" y="7056"/>
                  <a:pt x="16892" y="7193"/>
                </a:cubicBezTo>
              </a:path>
              <a:path w="3101" h="4763">
                <a:moveTo>
                  <a:pt x="16842" y="6127"/>
                </a:moveTo>
                <a:cubicBezTo>
                  <a:pt x="16665" y="6394"/>
                  <a:pt x="16535" y="6712"/>
                  <a:pt x="16371" y="6995"/>
                </a:cubicBezTo>
                <a:cubicBezTo>
                  <a:pt x="16282" y="7149"/>
                  <a:pt x="16178" y="7283"/>
                  <a:pt x="16098" y="7441"/>
                </a:cubicBezTo>
              </a:path>
              <a:path w="3101" h="4763">
                <a:moveTo>
                  <a:pt x="16396" y="5135"/>
                </a:moveTo>
                <a:cubicBezTo>
                  <a:pt x="16204" y="5135"/>
                  <a:pt x="16167" y="5199"/>
                  <a:pt x="16098" y="5383"/>
                </a:cubicBezTo>
                <a:cubicBezTo>
                  <a:pt x="16219" y="5442"/>
                  <a:pt x="16423" y="5489"/>
                  <a:pt x="16470" y="5631"/>
                </a:cubicBezTo>
                <a:cubicBezTo>
                  <a:pt x="16520" y="5781"/>
                  <a:pt x="16437" y="5846"/>
                  <a:pt x="16346" y="5928"/>
                </a:cubicBezTo>
                <a:cubicBezTo>
                  <a:pt x="16238" y="5851"/>
                  <a:pt x="16233" y="5737"/>
                  <a:pt x="16272" y="5606"/>
                </a:cubicBezTo>
                <a:cubicBezTo>
                  <a:pt x="16305" y="5495"/>
                  <a:pt x="16397" y="5397"/>
                  <a:pt x="16421" y="5283"/>
                </a:cubicBezTo>
                <a:cubicBezTo>
                  <a:pt x="16421" y="5227"/>
                  <a:pt x="16416" y="5205"/>
                  <a:pt x="16371" y="5184"/>
                </a:cubicBezTo>
              </a:path>
              <a:path w="3101" h="4763">
                <a:moveTo>
                  <a:pt x="17090" y="6127"/>
                </a:moveTo>
                <a:cubicBezTo>
                  <a:pt x="17050" y="6266"/>
                  <a:pt x="17066" y="6443"/>
                  <a:pt x="17066" y="6598"/>
                </a:cubicBezTo>
                <a:cubicBezTo>
                  <a:pt x="17066" y="6615"/>
                  <a:pt x="17066" y="6631"/>
                  <a:pt x="17066" y="6648"/>
                </a:cubicBezTo>
              </a:path>
              <a:path w="3101" h="4763">
                <a:moveTo>
                  <a:pt x="17512" y="9079"/>
                </a:moveTo>
                <a:cubicBezTo>
                  <a:pt x="17545" y="8998"/>
                  <a:pt x="17590" y="8931"/>
                  <a:pt x="17686" y="8905"/>
                </a:cubicBezTo>
                <a:cubicBezTo>
                  <a:pt x="17804" y="8874"/>
                  <a:pt x="17843" y="9010"/>
                  <a:pt x="17835" y="9103"/>
                </a:cubicBezTo>
                <a:cubicBezTo>
                  <a:pt x="17827" y="9195"/>
                  <a:pt x="17728" y="9337"/>
                  <a:pt x="17661" y="9401"/>
                </a:cubicBezTo>
                <a:cubicBezTo>
                  <a:pt x="17555" y="9503"/>
                  <a:pt x="17511" y="9526"/>
                  <a:pt x="17462" y="9674"/>
                </a:cubicBezTo>
                <a:cubicBezTo>
                  <a:pt x="17454" y="9699"/>
                  <a:pt x="17446" y="9723"/>
                  <a:pt x="17438" y="9748"/>
                </a:cubicBezTo>
                <a:cubicBezTo>
                  <a:pt x="17456" y="9719"/>
                  <a:pt x="17532" y="9584"/>
                  <a:pt x="17587" y="9599"/>
                </a:cubicBezTo>
                <a:cubicBezTo>
                  <a:pt x="17734" y="9639"/>
                  <a:pt x="17751" y="9714"/>
                  <a:pt x="17909" y="9624"/>
                </a:cubicBezTo>
                <a:cubicBezTo>
                  <a:pt x="17965" y="9587"/>
                  <a:pt x="17990" y="9592"/>
                  <a:pt x="17983" y="9550"/>
                </a:cubicBezTo>
              </a:path>
              <a:path w="3101" h="4763">
                <a:moveTo>
                  <a:pt x="17041" y="9649"/>
                </a:moveTo>
                <a:cubicBezTo>
                  <a:pt x="16962" y="9531"/>
                  <a:pt x="16959" y="9847"/>
                  <a:pt x="17016" y="9699"/>
                </a:cubicBezTo>
                <a:cubicBezTo>
                  <a:pt x="17036" y="9648"/>
                  <a:pt x="16986" y="9697"/>
                  <a:pt x="16966" y="9748"/>
                </a:cubicBezTo>
              </a:path>
              <a:path w="3101" h="4763">
                <a:moveTo>
                  <a:pt x="16619" y="9004"/>
                </a:moveTo>
                <a:cubicBezTo>
                  <a:pt x="16595" y="9014"/>
                  <a:pt x="16151" y="9147"/>
                  <a:pt x="16148" y="9153"/>
                </a:cubicBezTo>
                <a:cubicBezTo>
                  <a:pt x="16127" y="9200"/>
                  <a:pt x="16190" y="9406"/>
                  <a:pt x="16197" y="9475"/>
                </a:cubicBezTo>
                <a:cubicBezTo>
                  <a:pt x="16317" y="9374"/>
                  <a:pt x="16433" y="9273"/>
                  <a:pt x="16570" y="9426"/>
                </a:cubicBezTo>
                <a:cubicBezTo>
                  <a:pt x="16713" y="9586"/>
                  <a:pt x="16520" y="9789"/>
                  <a:pt x="16371" y="9847"/>
                </a:cubicBezTo>
                <a:cubicBezTo>
                  <a:pt x="16315" y="9869"/>
                  <a:pt x="15939" y="9800"/>
                  <a:pt x="16148" y="9847"/>
                </a:cubicBezTo>
                <a:cubicBezTo>
                  <a:pt x="16173" y="9847"/>
                  <a:pt x="16197" y="9847"/>
                  <a:pt x="16222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8160" y="4017960"/>
            <a:ext cx="1724040" cy="1349280"/>
          </a:xfrm>
          <a:custGeom>
            <a:avLst/>
            <a:gdLst/>
            <a:ahLst/>
            <a:rect l="l" t="t" r="r" b="b"/>
            <a:pathLst>
              <a:path w="4788" h="3747">
                <a:moveTo>
                  <a:pt x="16619" y="11857"/>
                </a:moveTo>
                <a:cubicBezTo>
                  <a:pt x="16627" y="11840"/>
                  <a:pt x="16636" y="11824"/>
                  <a:pt x="16644" y="11807"/>
                </a:cubicBezTo>
                <a:cubicBezTo>
                  <a:pt x="16627" y="12073"/>
                  <a:pt x="16578" y="12322"/>
                  <a:pt x="16495" y="12576"/>
                </a:cubicBezTo>
                <a:cubicBezTo>
                  <a:pt x="16487" y="12593"/>
                  <a:pt x="16478" y="12609"/>
                  <a:pt x="16470" y="12626"/>
                </a:cubicBezTo>
              </a:path>
              <a:path w="4788" h="3747">
                <a:moveTo>
                  <a:pt x="16991" y="11906"/>
                </a:moveTo>
                <a:cubicBezTo>
                  <a:pt x="17090" y="11842"/>
                  <a:pt x="17148" y="11803"/>
                  <a:pt x="17264" y="11782"/>
                </a:cubicBezTo>
                <a:cubicBezTo>
                  <a:pt x="17251" y="11973"/>
                  <a:pt x="17213" y="12060"/>
                  <a:pt x="17090" y="12204"/>
                </a:cubicBezTo>
                <a:cubicBezTo>
                  <a:pt x="17160" y="12065"/>
                  <a:pt x="17233" y="12237"/>
                  <a:pt x="17190" y="12353"/>
                </a:cubicBezTo>
                <a:cubicBezTo>
                  <a:pt x="17112" y="12562"/>
                  <a:pt x="16920" y="12536"/>
                  <a:pt x="16743" y="12502"/>
                </a:cubicBezTo>
                <a:cubicBezTo>
                  <a:pt x="16760" y="12335"/>
                  <a:pt x="16843" y="12420"/>
                  <a:pt x="16942" y="12502"/>
                </a:cubicBezTo>
                <a:cubicBezTo>
                  <a:pt x="16950" y="12510"/>
                  <a:pt x="16958" y="12518"/>
                  <a:pt x="16966" y="12526"/>
                </a:cubicBezTo>
              </a:path>
              <a:path w="4788" h="3747">
                <a:moveTo>
                  <a:pt x="17388" y="12427"/>
                </a:moveTo>
                <a:cubicBezTo>
                  <a:pt x="17396" y="12460"/>
                  <a:pt x="17405" y="12493"/>
                  <a:pt x="17413" y="12526"/>
                </a:cubicBezTo>
              </a:path>
              <a:path w="4788" h="3747">
                <a:moveTo>
                  <a:pt x="18008" y="11931"/>
                </a:moveTo>
                <a:cubicBezTo>
                  <a:pt x="17876" y="11986"/>
                  <a:pt x="17709" y="12218"/>
                  <a:pt x="17785" y="12402"/>
                </a:cubicBezTo>
                <a:cubicBezTo>
                  <a:pt x="17818" y="12427"/>
                  <a:pt x="17851" y="12452"/>
                  <a:pt x="17884" y="12477"/>
                </a:cubicBezTo>
                <a:cubicBezTo>
                  <a:pt x="18046" y="12384"/>
                  <a:pt x="18275" y="12165"/>
                  <a:pt x="18008" y="11981"/>
                </a:cubicBezTo>
                <a:cubicBezTo>
                  <a:pt x="17975" y="11981"/>
                  <a:pt x="17942" y="11981"/>
                  <a:pt x="17909" y="11981"/>
                </a:cubicBezTo>
              </a:path>
              <a:path w="4788" h="3747">
                <a:moveTo>
                  <a:pt x="18355" y="11881"/>
                </a:moveTo>
                <a:cubicBezTo>
                  <a:pt x="18368" y="11872"/>
                  <a:pt x="18683" y="11597"/>
                  <a:pt x="18653" y="11807"/>
                </a:cubicBezTo>
                <a:cubicBezTo>
                  <a:pt x="18599" y="11944"/>
                  <a:pt x="18572" y="11996"/>
                  <a:pt x="18479" y="12055"/>
                </a:cubicBezTo>
                <a:cubicBezTo>
                  <a:pt x="18463" y="12072"/>
                  <a:pt x="18446" y="12088"/>
                  <a:pt x="18430" y="12105"/>
                </a:cubicBezTo>
                <a:cubicBezTo>
                  <a:pt x="18519" y="12015"/>
                  <a:pt x="18693" y="11936"/>
                  <a:pt x="18703" y="12154"/>
                </a:cubicBezTo>
                <a:cubicBezTo>
                  <a:pt x="18711" y="12343"/>
                  <a:pt x="18591" y="12435"/>
                  <a:pt x="18430" y="12402"/>
                </a:cubicBezTo>
              </a:path>
              <a:path w="4788" h="3747">
                <a:moveTo>
                  <a:pt x="15131" y="13221"/>
                </a:moveTo>
                <a:cubicBezTo>
                  <a:pt x="15098" y="13387"/>
                  <a:pt x="15057" y="13571"/>
                  <a:pt x="15032" y="13742"/>
                </a:cubicBezTo>
                <a:cubicBezTo>
                  <a:pt x="15032" y="13767"/>
                  <a:pt x="15032" y="13791"/>
                  <a:pt x="15032" y="13816"/>
                </a:cubicBezTo>
              </a:path>
              <a:path w="4788" h="3747">
                <a:moveTo>
                  <a:pt x="14858" y="13519"/>
                </a:moveTo>
                <a:cubicBezTo>
                  <a:pt x="15015" y="13480"/>
                  <a:pt x="15168" y="13493"/>
                  <a:pt x="15329" y="13519"/>
                </a:cubicBezTo>
              </a:path>
              <a:path w="4788" h="3747">
                <a:moveTo>
                  <a:pt x="17214" y="13072"/>
                </a:moveTo>
                <a:cubicBezTo>
                  <a:pt x="17214" y="12954"/>
                  <a:pt x="17185" y="12883"/>
                  <a:pt x="17066" y="12824"/>
                </a:cubicBezTo>
                <a:cubicBezTo>
                  <a:pt x="16889" y="12736"/>
                  <a:pt x="16737" y="12990"/>
                  <a:pt x="16768" y="13146"/>
                </a:cubicBezTo>
                <a:cubicBezTo>
                  <a:pt x="16785" y="13163"/>
                  <a:pt x="16801" y="13179"/>
                  <a:pt x="16818" y="13196"/>
                </a:cubicBezTo>
                <a:cubicBezTo>
                  <a:pt x="16956" y="13135"/>
                  <a:pt x="17039" y="13079"/>
                  <a:pt x="17090" y="12923"/>
                </a:cubicBezTo>
                <a:cubicBezTo>
                  <a:pt x="17090" y="12915"/>
                  <a:pt x="17090" y="12906"/>
                  <a:pt x="17090" y="12898"/>
                </a:cubicBezTo>
                <a:cubicBezTo>
                  <a:pt x="17129" y="13105"/>
                  <a:pt x="17092" y="13286"/>
                  <a:pt x="17066" y="13494"/>
                </a:cubicBezTo>
                <a:cubicBezTo>
                  <a:pt x="17066" y="13502"/>
                  <a:pt x="17066" y="13511"/>
                  <a:pt x="17066" y="13519"/>
                </a:cubicBezTo>
              </a:path>
              <a:path w="4788" h="3747">
                <a:moveTo>
                  <a:pt x="15478" y="14064"/>
                </a:moveTo>
                <a:cubicBezTo>
                  <a:pt x="15873" y="14004"/>
                  <a:pt x="16294" y="14007"/>
                  <a:pt x="16694" y="13990"/>
                </a:cubicBezTo>
                <a:cubicBezTo>
                  <a:pt x="17523" y="13954"/>
                  <a:pt x="18345" y="13968"/>
                  <a:pt x="19174" y="14015"/>
                </a:cubicBezTo>
                <a:cubicBezTo>
                  <a:pt x="19447" y="14034"/>
                  <a:pt x="19491" y="14027"/>
                  <a:pt x="19645" y="14064"/>
                </a:cubicBezTo>
              </a:path>
              <a:path w="4788" h="3747">
                <a:moveTo>
                  <a:pt x="17587" y="13469"/>
                </a:moveTo>
                <a:cubicBezTo>
                  <a:pt x="17540" y="13539"/>
                  <a:pt x="17518" y="13563"/>
                  <a:pt x="17611" y="13543"/>
                </a:cubicBezTo>
              </a:path>
              <a:path w="4788" h="3747">
                <a:moveTo>
                  <a:pt x="18058" y="13097"/>
                </a:moveTo>
                <a:cubicBezTo>
                  <a:pt x="18034" y="13011"/>
                  <a:pt x="17963" y="12971"/>
                  <a:pt x="17934" y="13122"/>
                </a:cubicBezTo>
                <a:cubicBezTo>
                  <a:pt x="17894" y="13332"/>
                  <a:pt x="17886" y="13466"/>
                  <a:pt x="17983" y="13618"/>
                </a:cubicBezTo>
                <a:cubicBezTo>
                  <a:pt x="18147" y="13497"/>
                  <a:pt x="18422" y="13295"/>
                  <a:pt x="18207" y="13072"/>
                </a:cubicBezTo>
                <a:cubicBezTo>
                  <a:pt x="18111" y="13024"/>
                  <a:pt x="18082" y="13007"/>
                  <a:pt x="18008" y="13022"/>
                </a:cubicBezTo>
              </a:path>
              <a:path w="4788" h="3747">
                <a:moveTo>
                  <a:pt x="18678" y="12849"/>
                </a:moveTo>
                <a:cubicBezTo>
                  <a:pt x="18499" y="12893"/>
                  <a:pt x="18493" y="13217"/>
                  <a:pt x="18504" y="13370"/>
                </a:cubicBezTo>
                <a:cubicBezTo>
                  <a:pt x="18521" y="13420"/>
                  <a:pt x="18537" y="13469"/>
                  <a:pt x="18554" y="13519"/>
                </a:cubicBezTo>
                <a:cubicBezTo>
                  <a:pt x="18763" y="13518"/>
                  <a:pt x="18983" y="13395"/>
                  <a:pt x="18901" y="13122"/>
                </a:cubicBezTo>
                <a:cubicBezTo>
                  <a:pt x="18807" y="13005"/>
                  <a:pt x="18782" y="12966"/>
                  <a:pt x="18678" y="12948"/>
                </a:cubicBezTo>
              </a:path>
              <a:path w="4788" h="3747">
                <a:moveTo>
                  <a:pt x="18653" y="14213"/>
                </a:moveTo>
                <a:cubicBezTo>
                  <a:pt x="18675" y="14159"/>
                  <a:pt x="18701" y="14146"/>
                  <a:pt x="18752" y="14114"/>
                </a:cubicBezTo>
                <a:cubicBezTo>
                  <a:pt x="18856" y="14203"/>
                  <a:pt x="18827" y="14255"/>
                  <a:pt x="18752" y="14362"/>
                </a:cubicBezTo>
                <a:cubicBezTo>
                  <a:pt x="18726" y="14419"/>
                  <a:pt x="18893" y="14292"/>
                  <a:pt x="18852" y="14486"/>
                </a:cubicBezTo>
                <a:cubicBezTo>
                  <a:pt x="18820" y="14637"/>
                  <a:pt x="18694" y="14649"/>
                  <a:pt x="18579" y="14610"/>
                </a:cubicBezTo>
              </a:path>
              <a:path w="4788" h="3747">
                <a:moveTo>
                  <a:pt x="18083" y="14139"/>
                </a:moveTo>
                <a:cubicBezTo>
                  <a:pt x="17997" y="14284"/>
                  <a:pt x="17955" y="14408"/>
                  <a:pt x="17983" y="14585"/>
                </a:cubicBezTo>
                <a:cubicBezTo>
                  <a:pt x="18002" y="14708"/>
                  <a:pt x="18097" y="14682"/>
                  <a:pt x="18182" y="14635"/>
                </a:cubicBezTo>
                <a:cubicBezTo>
                  <a:pt x="18271" y="14585"/>
                  <a:pt x="18325" y="14467"/>
                  <a:pt x="18306" y="14362"/>
                </a:cubicBezTo>
                <a:cubicBezTo>
                  <a:pt x="18298" y="14318"/>
                  <a:pt x="18244" y="14215"/>
                  <a:pt x="18207" y="14188"/>
                </a:cubicBezTo>
                <a:cubicBezTo>
                  <a:pt x="18162" y="14155"/>
                  <a:pt x="18112" y="14139"/>
                  <a:pt x="18058" y="14139"/>
                </a:cubicBezTo>
              </a:path>
              <a:path w="4788" h="3747">
                <a:moveTo>
                  <a:pt x="17512" y="14660"/>
                </a:moveTo>
                <a:cubicBezTo>
                  <a:pt x="17605" y="14690"/>
                  <a:pt x="17529" y="14702"/>
                  <a:pt x="17636" y="14660"/>
                </a:cubicBezTo>
              </a:path>
              <a:path w="4788" h="3747">
                <a:moveTo>
                  <a:pt x="16892" y="14312"/>
                </a:moveTo>
                <a:cubicBezTo>
                  <a:pt x="16861" y="14211"/>
                  <a:pt x="16836" y="14174"/>
                  <a:pt x="16942" y="14114"/>
                </a:cubicBezTo>
                <a:cubicBezTo>
                  <a:pt x="17005" y="14078"/>
                  <a:pt x="17101" y="14192"/>
                  <a:pt x="17115" y="14238"/>
                </a:cubicBezTo>
                <a:cubicBezTo>
                  <a:pt x="17127" y="14277"/>
                  <a:pt x="17109" y="14382"/>
                  <a:pt x="17090" y="14412"/>
                </a:cubicBezTo>
                <a:cubicBezTo>
                  <a:pt x="17050" y="14475"/>
                  <a:pt x="17009" y="14547"/>
                  <a:pt x="16966" y="14610"/>
                </a:cubicBezTo>
                <a:cubicBezTo>
                  <a:pt x="16927" y="14668"/>
                  <a:pt x="16913" y="14700"/>
                  <a:pt x="16892" y="14759"/>
                </a:cubicBezTo>
                <a:cubicBezTo>
                  <a:pt x="16884" y="14775"/>
                  <a:pt x="16875" y="14792"/>
                  <a:pt x="16867" y="14808"/>
                </a:cubicBezTo>
                <a:cubicBezTo>
                  <a:pt x="16925" y="14664"/>
                  <a:pt x="16920" y="14710"/>
                  <a:pt x="17016" y="14784"/>
                </a:cubicBezTo>
                <a:cubicBezTo>
                  <a:pt x="17112" y="14858"/>
                  <a:pt x="17114" y="14800"/>
                  <a:pt x="17165" y="14709"/>
                </a:cubicBezTo>
              </a:path>
              <a:path w="4788" h="3747">
                <a:moveTo>
                  <a:pt x="16470" y="11162"/>
                </a:moveTo>
                <a:cubicBezTo>
                  <a:pt x="16470" y="11275"/>
                  <a:pt x="16479" y="11379"/>
                  <a:pt x="16495" y="11485"/>
                </a:cubicBezTo>
                <a:cubicBezTo>
                  <a:pt x="16495" y="11501"/>
                  <a:pt x="16495" y="11518"/>
                  <a:pt x="16495" y="11534"/>
                </a:cubicBezTo>
              </a:path>
              <a:path w="4788" h="3747">
                <a:moveTo>
                  <a:pt x="16346" y="14337"/>
                </a:moveTo>
                <a:cubicBezTo>
                  <a:pt x="16346" y="14276"/>
                  <a:pt x="16337" y="14260"/>
                  <a:pt x="16371" y="14238"/>
                </a:cubicBezTo>
                <a:cubicBezTo>
                  <a:pt x="16424" y="14244"/>
                  <a:pt x="16511" y="14287"/>
                  <a:pt x="16495" y="14387"/>
                </a:cubicBezTo>
                <a:cubicBezTo>
                  <a:pt x="16480" y="14479"/>
                  <a:pt x="16445" y="14515"/>
                  <a:pt x="16396" y="14585"/>
                </a:cubicBezTo>
                <a:cubicBezTo>
                  <a:pt x="16346" y="14656"/>
                  <a:pt x="16312" y="14732"/>
                  <a:pt x="16272" y="14808"/>
                </a:cubicBezTo>
                <a:cubicBezTo>
                  <a:pt x="16248" y="14856"/>
                  <a:pt x="16240" y="14871"/>
                  <a:pt x="16247" y="14908"/>
                </a:cubicBezTo>
                <a:cubicBezTo>
                  <a:pt x="16261" y="14765"/>
                  <a:pt x="16286" y="14814"/>
                  <a:pt x="16371" y="14858"/>
                </a:cubicBezTo>
                <a:cubicBezTo>
                  <a:pt x="16460" y="14905"/>
                  <a:pt x="16480" y="14863"/>
                  <a:pt x="1654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7160" y="4125960"/>
            <a:ext cx="1322640" cy="1490760"/>
          </a:xfrm>
          <a:custGeom>
            <a:avLst/>
            <a:gdLst/>
            <a:ahLst/>
            <a:rect l="l" t="t" r="r" b="b"/>
            <a:pathLst>
              <a:path w="3672" h="4143">
                <a:moveTo>
                  <a:pt x="5928" y="13593"/>
                </a:moveTo>
                <a:cubicBezTo>
                  <a:pt x="6118" y="13593"/>
                  <a:pt x="6309" y="13593"/>
                  <a:pt x="6499" y="13593"/>
                </a:cubicBezTo>
              </a:path>
              <a:path w="3672" h="4143">
                <a:moveTo>
                  <a:pt x="6846" y="12229"/>
                </a:moveTo>
                <a:cubicBezTo>
                  <a:pt x="6931" y="12355"/>
                  <a:pt x="6903" y="12582"/>
                  <a:pt x="6871" y="12750"/>
                </a:cubicBezTo>
                <a:cubicBezTo>
                  <a:pt x="6863" y="12775"/>
                  <a:pt x="6854" y="12799"/>
                  <a:pt x="6846" y="12824"/>
                </a:cubicBezTo>
              </a:path>
              <a:path w="3672" h="4143">
                <a:moveTo>
                  <a:pt x="7268" y="12328"/>
                </a:moveTo>
                <a:cubicBezTo>
                  <a:pt x="7328" y="12234"/>
                  <a:pt x="7355" y="12222"/>
                  <a:pt x="7466" y="12179"/>
                </a:cubicBezTo>
                <a:cubicBezTo>
                  <a:pt x="7488" y="12351"/>
                  <a:pt x="7494" y="12369"/>
                  <a:pt x="7392" y="12502"/>
                </a:cubicBezTo>
                <a:cubicBezTo>
                  <a:pt x="7515" y="12477"/>
                  <a:pt x="7658" y="12544"/>
                  <a:pt x="7516" y="12700"/>
                </a:cubicBezTo>
                <a:cubicBezTo>
                  <a:pt x="7406" y="12820"/>
                  <a:pt x="7277" y="12771"/>
                  <a:pt x="7144" y="12750"/>
                </a:cubicBezTo>
              </a:path>
              <a:path w="3672" h="4143">
                <a:moveTo>
                  <a:pt x="7863" y="12601"/>
                </a:moveTo>
                <a:cubicBezTo>
                  <a:pt x="7863" y="12667"/>
                  <a:pt x="7863" y="12684"/>
                  <a:pt x="7863" y="12725"/>
                </a:cubicBezTo>
              </a:path>
              <a:path w="3672" h="4143">
                <a:moveTo>
                  <a:pt x="8334" y="12229"/>
                </a:moveTo>
                <a:cubicBezTo>
                  <a:pt x="8210" y="12178"/>
                  <a:pt x="8153" y="12375"/>
                  <a:pt x="8136" y="12477"/>
                </a:cubicBezTo>
                <a:cubicBezTo>
                  <a:pt x="8136" y="12606"/>
                  <a:pt x="8125" y="12639"/>
                  <a:pt x="8186" y="12700"/>
                </a:cubicBezTo>
                <a:cubicBezTo>
                  <a:pt x="8351" y="12653"/>
                  <a:pt x="8641" y="12493"/>
                  <a:pt x="8409" y="12278"/>
                </a:cubicBezTo>
                <a:cubicBezTo>
                  <a:pt x="8327" y="12258"/>
                  <a:pt x="8311" y="12250"/>
                  <a:pt x="8260" y="12254"/>
                </a:cubicBezTo>
              </a:path>
              <a:path w="3672" h="4143">
                <a:moveTo>
                  <a:pt x="8706" y="12204"/>
                </a:moveTo>
                <a:cubicBezTo>
                  <a:pt x="8769" y="12190"/>
                  <a:pt x="8817" y="12168"/>
                  <a:pt x="8880" y="12154"/>
                </a:cubicBezTo>
                <a:cubicBezTo>
                  <a:pt x="8889" y="12273"/>
                  <a:pt x="8869" y="12317"/>
                  <a:pt x="8806" y="12427"/>
                </a:cubicBezTo>
                <a:cubicBezTo>
                  <a:pt x="8879" y="12395"/>
                  <a:pt x="9059" y="12374"/>
                  <a:pt x="9054" y="12526"/>
                </a:cubicBezTo>
                <a:cubicBezTo>
                  <a:pt x="9048" y="12710"/>
                  <a:pt x="8860" y="12725"/>
                  <a:pt x="8731" y="12725"/>
                </a:cubicBezTo>
              </a:path>
              <a:path w="3672" h="4143">
                <a:moveTo>
                  <a:pt x="8012" y="13717"/>
                </a:moveTo>
                <a:cubicBezTo>
                  <a:pt x="7894" y="13796"/>
                  <a:pt x="8028" y="13751"/>
                  <a:pt x="8062" y="13692"/>
                </a:cubicBezTo>
                <a:cubicBezTo>
                  <a:pt x="8020" y="13692"/>
                  <a:pt x="8004" y="13684"/>
                  <a:pt x="8012" y="13717"/>
                </a:cubicBezTo>
              </a:path>
              <a:path w="3672" h="4143">
                <a:moveTo>
                  <a:pt x="7516" y="13196"/>
                </a:moveTo>
                <a:cubicBezTo>
                  <a:pt x="7595" y="13127"/>
                  <a:pt x="7630" y="13042"/>
                  <a:pt x="7541" y="12948"/>
                </a:cubicBezTo>
                <a:cubicBezTo>
                  <a:pt x="7437" y="12837"/>
                  <a:pt x="7276" y="12913"/>
                  <a:pt x="7218" y="13022"/>
                </a:cubicBezTo>
                <a:cubicBezTo>
                  <a:pt x="7170" y="13169"/>
                  <a:pt x="7154" y="13217"/>
                  <a:pt x="7144" y="13320"/>
                </a:cubicBezTo>
                <a:cubicBezTo>
                  <a:pt x="7300" y="13299"/>
                  <a:pt x="7463" y="13269"/>
                  <a:pt x="7541" y="13097"/>
                </a:cubicBezTo>
                <a:cubicBezTo>
                  <a:pt x="7541" y="13080"/>
                  <a:pt x="7541" y="13064"/>
                  <a:pt x="7541" y="13047"/>
                </a:cubicBezTo>
                <a:cubicBezTo>
                  <a:pt x="7501" y="13287"/>
                  <a:pt x="7397" y="13510"/>
                  <a:pt x="7317" y="13742"/>
                </a:cubicBezTo>
                <a:cubicBezTo>
                  <a:pt x="7309" y="13767"/>
                  <a:pt x="7301" y="13791"/>
                  <a:pt x="7293" y="13816"/>
                </a:cubicBezTo>
              </a:path>
              <a:path w="3672" h="4143">
                <a:moveTo>
                  <a:pt x="5631" y="14039"/>
                </a:moveTo>
                <a:cubicBezTo>
                  <a:pt x="5929" y="14201"/>
                  <a:pt x="6363" y="14119"/>
                  <a:pt x="6697" y="14163"/>
                </a:cubicBezTo>
                <a:cubicBezTo>
                  <a:pt x="7404" y="14255"/>
                  <a:pt x="8100" y="14449"/>
                  <a:pt x="8806" y="14560"/>
                </a:cubicBezTo>
                <a:cubicBezTo>
                  <a:pt x="9062" y="14600"/>
                  <a:pt x="9105" y="14603"/>
                  <a:pt x="9252" y="14635"/>
                </a:cubicBezTo>
              </a:path>
              <a:path w="3672" h="4143">
                <a:moveTo>
                  <a:pt x="8582" y="13519"/>
                </a:moveTo>
                <a:cubicBezTo>
                  <a:pt x="8599" y="13457"/>
                  <a:pt x="8607" y="13431"/>
                  <a:pt x="8607" y="13370"/>
                </a:cubicBezTo>
                <a:cubicBezTo>
                  <a:pt x="8461" y="13419"/>
                  <a:pt x="8420" y="13600"/>
                  <a:pt x="8359" y="13791"/>
                </a:cubicBezTo>
                <a:cubicBezTo>
                  <a:pt x="8517" y="13712"/>
                  <a:pt x="8602" y="13537"/>
                  <a:pt x="8533" y="13345"/>
                </a:cubicBezTo>
                <a:cubicBezTo>
                  <a:pt x="8462" y="13252"/>
                  <a:pt x="8445" y="13217"/>
                  <a:pt x="8359" y="13271"/>
                </a:cubicBezTo>
              </a:path>
              <a:path w="3672" h="4143">
                <a:moveTo>
                  <a:pt x="9029" y="13395"/>
                </a:moveTo>
                <a:cubicBezTo>
                  <a:pt x="8813" y="13502"/>
                  <a:pt x="8785" y="13578"/>
                  <a:pt x="8880" y="13791"/>
                </a:cubicBezTo>
                <a:cubicBezTo>
                  <a:pt x="9029" y="13748"/>
                  <a:pt x="9466" y="13501"/>
                  <a:pt x="9079" y="13370"/>
                </a:cubicBezTo>
                <a:cubicBezTo>
                  <a:pt x="9029" y="13378"/>
                  <a:pt x="8980" y="13387"/>
                  <a:pt x="8930" y="13395"/>
                </a:cubicBezTo>
              </a:path>
              <a:path w="3672" h="4143">
                <a:moveTo>
                  <a:pt x="8582" y="13320"/>
                </a:moveTo>
                <a:cubicBezTo>
                  <a:pt x="8548" y="13235"/>
                  <a:pt x="8476" y="13229"/>
                  <a:pt x="8384" y="13246"/>
                </a:cubicBezTo>
                <a:cubicBezTo>
                  <a:pt x="8232" y="13275"/>
                  <a:pt x="8202" y="13436"/>
                  <a:pt x="8186" y="13568"/>
                </a:cubicBezTo>
                <a:cubicBezTo>
                  <a:pt x="8150" y="13856"/>
                  <a:pt x="8400" y="13712"/>
                  <a:pt x="8533" y="13643"/>
                </a:cubicBezTo>
              </a:path>
              <a:path w="3672" h="4143">
                <a:moveTo>
                  <a:pt x="8979" y="15032"/>
                </a:moveTo>
                <a:cubicBezTo>
                  <a:pt x="9080" y="14998"/>
                  <a:pt x="9147" y="14932"/>
                  <a:pt x="9252" y="14908"/>
                </a:cubicBezTo>
                <a:cubicBezTo>
                  <a:pt x="9311" y="15063"/>
                  <a:pt x="9246" y="15108"/>
                  <a:pt x="9128" y="15205"/>
                </a:cubicBezTo>
                <a:cubicBezTo>
                  <a:pt x="9279" y="15190"/>
                  <a:pt x="9381" y="15328"/>
                  <a:pt x="9252" y="15478"/>
                </a:cubicBezTo>
                <a:cubicBezTo>
                  <a:pt x="9159" y="15586"/>
                  <a:pt x="9063" y="15558"/>
                  <a:pt x="8954" y="15528"/>
                </a:cubicBezTo>
              </a:path>
              <a:path w="3672" h="4143">
                <a:moveTo>
                  <a:pt x="8458" y="14957"/>
                </a:moveTo>
                <a:cubicBezTo>
                  <a:pt x="8307" y="14855"/>
                  <a:pt x="8303" y="14982"/>
                  <a:pt x="8260" y="15131"/>
                </a:cubicBezTo>
                <a:cubicBezTo>
                  <a:pt x="8197" y="15349"/>
                  <a:pt x="8196" y="15415"/>
                  <a:pt x="8285" y="15602"/>
                </a:cubicBezTo>
                <a:cubicBezTo>
                  <a:pt x="8515" y="15556"/>
                  <a:pt x="8647" y="15447"/>
                  <a:pt x="8657" y="15180"/>
                </a:cubicBezTo>
                <a:cubicBezTo>
                  <a:pt x="8663" y="15010"/>
                  <a:pt x="8567" y="14946"/>
                  <a:pt x="8434" y="14957"/>
                </a:cubicBezTo>
              </a:path>
              <a:path w="3672" h="4143">
                <a:moveTo>
                  <a:pt x="6871" y="12154"/>
                </a:moveTo>
                <a:cubicBezTo>
                  <a:pt x="6912" y="12154"/>
                  <a:pt x="6920" y="12154"/>
                  <a:pt x="6945" y="12154"/>
                </a:cubicBezTo>
                <a:cubicBezTo>
                  <a:pt x="6929" y="12356"/>
                  <a:pt x="6726" y="12519"/>
                  <a:pt x="6573" y="12675"/>
                </a:cubicBezTo>
                <a:cubicBezTo>
                  <a:pt x="6540" y="12708"/>
                  <a:pt x="6507" y="12741"/>
                  <a:pt x="6474" y="12774"/>
                </a:cubicBezTo>
              </a:path>
              <a:path w="3672" h="4143">
                <a:moveTo>
                  <a:pt x="6672" y="11509"/>
                </a:moveTo>
                <a:cubicBezTo>
                  <a:pt x="6626" y="11417"/>
                  <a:pt x="6639" y="11536"/>
                  <a:pt x="6573" y="11584"/>
                </a:cubicBezTo>
                <a:cubicBezTo>
                  <a:pt x="6489" y="11645"/>
                  <a:pt x="6478" y="11700"/>
                  <a:pt x="6474" y="11807"/>
                </a:cubicBezTo>
                <a:cubicBezTo>
                  <a:pt x="6470" y="11914"/>
                  <a:pt x="6510" y="11977"/>
                  <a:pt x="6623" y="12005"/>
                </a:cubicBezTo>
                <a:cubicBezTo>
                  <a:pt x="6689" y="12021"/>
                  <a:pt x="6793" y="11959"/>
                  <a:pt x="6821" y="11931"/>
                </a:cubicBezTo>
                <a:cubicBezTo>
                  <a:pt x="6904" y="11848"/>
                  <a:pt x="6889" y="11829"/>
                  <a:pt x="6871" y="11733"/>
                </a:cubicBezTo>
                <a:cubicBezTo>
                  <a:pt x="6852" y="11633"/>
                  <a:pt x="6831" y="11640"/>
                  <a:pt x="6747" y="11584"/>
                </a:cubicBezTo>
                <a:cubicBezTo>
                  <a:pt x="6717" y="11554"/>
                  <a:pt x="6703" y="11543"/>
                  <a:pt x="6672" y="11534"/>
                </a:cubicBezTo>
              </a:path>
              <a:path w="3672" h="4143">
                <a:moveTo>
                  <a:pt x="7169" y="11906"/>
                </a:moveTo>
                <a:cubicBezTo>
                  <a:pt x="7169" y="12034"/>
                  <a:pt x="7163" y="12134"/>
                  <a:pt x="7119" y="12254"/>
                </a:cubicBezTo>
              </a:path>
              <a:path w="3672" h="4143">
                <a:moveTo>
                  <a:pt x="6821" y="14734"/>
                </a:moveTo>
                <a:cubicBezTo>
                  <a:pt x="6974" y="14795"/>
                  <a:pt x="6941" y="14862"/>
                  <a:pt x="6896" y="15007"/>
                </a:cubicBezTo>
                <a:cubicBezTo>
                  <a:pt x="6888" y="15032"/>
                  <a:pt x="6879" y="15056"/>
                  <a:pt x="6871" y="15081"/>
                </a:cubicBezTo>
                <a:cubicBezTo>
                  <a:pt x="6923" y="15088"/>
                  <a:pt x="7048" y="15014"/>
                  <a:pt x="7119" y="15056"/>
                </a:cubicBezTo>
                <a:cubicBezTo>
                  <a:pt x="7136" y="15073"/>
                  <a:pt x="7152" y="15089"/>
                  <a:pt x="7169" y="15106"/>
                </a:cubicBezTo>
              </a:path>
              <a:path w="3672" h="4143">
                <a:moveTo>
                  <a:pt x="7094" y="14635"/>
                </a:moveTo>
                <a:cubicBezTo>
                  <a:pt x="7094" y="14886"/>
                  <a:pt x="7090" y="15131"/>
                  <a:pt x="7069" y="15379"/>
                </a:cubicBezTo>
                <a:cubicBezTo>
                  <a:pt x="7063" y="15450"/>
                  <a:pt x="7077" y="15472"/>
                  <a:pt x="7045" y="15528"/>
                </a:cubicBezTo>
              </a:path>
              <a:path w="3672" h="4143">
                <a:moveTo>
                  <a:pt x="7541" y="15478"/>
                </a:moveTo>
                <a:cubicBezTo>
                  <a:pt x="7541" y="15437"/>
                  <a:pt x="7549" y="15421"/>
                  <a:pt x="7516" y="15429"/>
                </a:cubicBezTo>
                <a:cubicBezTo>
                  <a:pt x="7489" y="15508"/>
                  <a:pt x="7524" y="15638"/>
                  <a:pt x="7565" y="15503"/>
                </a:cubicBezTo>
                <a:cubicBezTo>
                  <a:pt x="7601" y="15385"/>
                  <a:pt x="7522" y="15494"/>
                  <a:pt x="751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52840" y="2017800"/>
            <a:ext cx="17280" cy="322200"/>
          </a:xfrm>
          <a:custGeom>
            <a:avLst/>
            <a:gdLst/>
            <a:ahLst/>
            <a:rect l="l" t="t" r="r" b="b"/>
            <a:pathLst>
              <a:path w="51" h="894">
                <a:moveTo>
                  <a:pt x="7392" y="5606"/>
                </a:moveTo>
                <a:cubicBezTo>
                  <a:pt x="7421" y="5912"/>
                  <a:pt x="7414" y="6195"/>
                  <a:pt x="7367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1760" y="1982880"/>
            <a:ext cx="142560" cy="3031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7615" y="5655"/>
                </a:moveTo>
                <a:cubicBezTo>
                  <a:pt x="7655" y="5588"/>
                  <a:pt x="7882" y="5357"/>
                  <a:pt x="7913" y="5581"/>
                </a:cubicBezTo>
                <a:cubicBezTo>
                  <a:pt x="7891" y="5734"/>
                  <a:pt x="7892" y="5772"/>
                  <a:pt x="7838" y="5854"/>
                </a:cubicBezTo>
                <a:cubicBezTo>
                  <a:pt x="8067" y="5748"/>
                  <a:pt x="8059" y="5991"/>
                  <a:pt x="7938" y="6176"/>
                </a:cubicBezTo>
                <a:cubicBezTo>
                  <a:pt x="7863" y="6290"/>
                  <a:pt x="7680" y="6428"/>
                  <a:pt x="7615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5960" y="2170080"/>
            <a:ext cx="936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8210" y="6028"/>
                </a:moveTo>
                <a:cubicBezTo>
                  <a:pt x="8218" y="6053"/>
                  <a:pt x="8227" y="6077"/>
                  <a:pt x="8235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4240" y="1973160"/>
            <a:ext cx="125640" cy="24156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8582" y="5482"/>
                </a:moveTo>
                <a:cubicBezTo>
                  <a:pt x="8504" y="5738"/>
                  <a:pt x="8437" y="5925"/>
                  <a:pt x="8558" y="6152"/>
                </a:cubicBezTo>
                <a:cubicBezTo>
                  <a:pt x="8755" y="6033"/>
                  <a:pt x="8967" y="5831"/>
                  <a:pt x="8756" y="5581"/>
                </a:cubicBezTo>
                <a:cubicBezTo>
                  <a:pt x="8715" y="5564"/>
                  <a:pt x="8673" y="5548"/>
                  <a:pt x="8632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7800" y="1928880"/>
            <a:ext cx="142920" cy="277920"/>
          </a:xfrm>
          <a:custGeom>
            <a:avLst/>
            <a:gdLst/>
            <a:ahLst/>
            <a:rect l="l" t="t" r="r" b="b"/>
            <a:pathLst>
              <a:path w="398" h="770">
                <a:moveTo>
                  <a:pt x="8855" y="5383"/>
                </a:moveTo>
                <a:cubicBezTo>
                  <a:pt x="9023" y="5344"/>
                  <a:pt x="9122" y="5373"/>
                  <a:pt x="9054" y="5581"/>
                </a:cubicBezTo>
                <a:cubicBezTo>
                  <a:pt x="9029" y="5631"/>
                  <a:pt x="9004" y="5680"/>
                  <a:pt x="8979" y="5730"/>
                </a:cubicBezTo>
                <a:cubicBezTo>
                  <a:pt x="8939" y="5750"/>
                  <a:pt x="8923" y="5769"/>
                  <a:pt x="8930" y="5730"/>
                </a:cubicBezTo>
                <a:cubicBezTo>
                  <a:pt x="9022" y="5651"/>
                  <a:pt x="9268" y="5545"/>
                  <a:pt x="9252" y="5804"/>
                </a:cubicBezTo>
                <a:cubicBezTo>
                  <a:pt x="9237" y="6034"/>
                  <a:pt x="9048" y="6059"/>
                  <a:pt x="8880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44840" y="262584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7069" y="7293"/>
                </a:moveTo>
                <a:cubicBezTo>
                  <a:pt x="7092" y="7474"/>
                  <a:pt x="7100" y="7523"/>
                  <a:pt x="7094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920" y="2633760"/>
            <a:ext cx="160200" cy="81000"/>
          </a:xfrm>
          <a:custGeom>
            <a:avLst/>
            <a:gdLst/>
            <a:ahLst/>
            <a:rect l="l" t="t" r="r" b="b"/>
            <a:pathLst>
              <a:path w="448" h="225">
                <a:moveTo>
                  <a:pt x="6970" y="7541"/>
                </a:moveTo>
                <a:cubicBezTo>
                  <a:pt x="7118" y="7459"/>
                  <a:pt x="7261" y="7381"/>
                  <a:pt x="7417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84320" y="2438280"/>
            <a:ext cx="63720" cy="34920"/>
          </a:xfrm>
          <a:custGeom>
            <a:avLst/>
            <a:gdLst/>
            <a:ahLst/>
            <a:rect l="l" t="t" r="r" b="b"/>
            <a:pathLst>
              <a:path w="175" h="100">
                <a:moveTo>
                  <a:pt x="8012" y="6871"/>
                </a:moveTo>
                <a:cubicBezTo>
                  <a:pt x="8019" y="6823"/>
                  <a:pt x="8035" y="6753"/>
                  <a:pt x="8111" y="6772"/>
                </a:cubicBezTo>
                <a:cubicBezTo>
                  <a:pt x="8155" y="6793"/>
                  <a:pt x="8167" y="6796"/>
                  <a:pt x="8186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95760" y="2455920"/>
            <a:ext cx="169560" cy="285840"/>
          </a:xfrm>
          <a:custGeom>
            <a:avLst/>
            <a:gdLst/>
            <a:ahLst/>
            <a:rect l="l" t="t" r="r" b="b"/>
            <a:pathLst>
              <a:path w="472" h="795">
                <a:moveTo>
                  <a:pt x="8235" y="6821"/>
                </a:moveTo>
                <a:cubicBezTo>
                  <a:pt x="8229" y="6912"/>
                  <a:pt x="8225" y="7033"/>
                  <a:pt x="8136" y="7094"/>
                </a:cubicBezTo>
                <a:cubicBezTo>
                  <a:pt x="8080" y="7133"/>
                  <a:pt x="7978" y="7161"/>
                  <a:pt x="7913" y="7169"/>
                </a:cubicBezTo>
                <a:cubicBezTo>
                  <a:pt x="7991" y="7149"/>
                  <a:pt x="8135" y="7096"/>
                  <a:pt x="8186" y="7193"/>
                </a:cubicBezTo>
                <a:cubicBezTo>
                  <a:pt x="8263" y="7337"/>
                  <a:pt x="8182" y="7479"/>
                  <a:pt x="8062" y="7565"/>
                </a:cubicBezTo>
                <a:cubicBezTo>
                  <a:pt x="7965" y="7635"/>
                  <a:pt x="7866" y="7629"/>
                  <a:pt x="7764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261612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8632" y="7268"/>
                </a:moveTo>
                <a:cubicBezTo>
                  <a:pt x="8624" y="7276"/>
                  <a:pt x="8615" y="7285"/>
                  <a:pt x="8607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8880" y="2616120"/>
            <a:ext cx="17280" cy="19080"/>
          </a:xfrm>
          <a:custGeom>
            <a:avLst/>
            <a:gdLst/>
            <a:ahLst/>
            <a:rect l="l" t="t" r="r" b="b"/>
            <a:pathLst>
              <a:path w="51" h="50">
                <a:moveTo>
                  <a:pt x="8607" y="7293"/>
                </a:moveTo>
                <a:cubicBezTo>
                  <a:pt x="8607" y="7332"/>
                  <a:pt x="8618" y="7330"/>
                  <a:pt x="8657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5840" y="2741760"/>
            <a:ext cx="874440" cy="71280"/>
          </a:xfrm>
          <a:custGeom>
            <a:avLst/>
            <a:gdLst/>
            <a:ahLst/>
            <a:rect l="l" t="t" r="r" b="b"/>
            <a:pathLst>
              <a:path w="2431" h="199">
                <a:moveTo>
                  <a:pt x="7293" y="7813"/>
                </a:moveTo>
                <a:cubicBezTo>
                  <a:pt x="7834" y="7700"/>
                  <a:pt x="8398" y="7618"/>
                  <a:pt x="8954" y="7615"/>
                </a:cubicBezTo>
                <a:cubicBezTo>
                  <a:pt x="9218" y="7613"/>
                  <a:pt x="9464" y="7669"/>
                  <a:pt x="9723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247320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8930" y="6871"/>
                </a:moveTo>
                <a:cubicBezTo>
                  <a:pt x="9035" y="6914"/>
                  <a:pt x="8944" y="6871"/>
                  <a:pt x="8830" y="6970"/>
                </a:cubicBezTo>
                <a:cubicBezTo>
                  <a:pt x="8786" y="7015"/>
                  <a:pt x="8770" y="7025"/>
                  <a:pt x="8781" y="7069"/>
                </a:cubicBezTo>
                <a:cubicBezTo>
                  <a:pt x="8877" y="7106"/>
                  <a:pt x="9071" y="7144"/>
                  <a:pt x="9079" y="7268"/>
                </a:cubicBezTo>
                <a:cubicBezTo>
                  <a:pt x="9057" y="7357"/>
                  <a:pt x="9056" y="7382"/>
                  <a:pt x="9004" y="7417"/>
                </a:cubicBezTo>
                <a:cubicBezTo>
                  <a:pt x="8920" y="7319"/>
                  <a:pt x="8947" y="7161"/>
                  <a:pt x="8979" y="7020"/>
                </a:cubicBezTo>
                <a:cubicBezTo>
                  <a:pt x="8987" y="6995"/>
                  <a:pt x="8996" y="6970"/>
                  <a:pt x="9004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30720" y="2473200"/>
            <a:ext cx="98280" cy="1620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9327" y="6921"/>
                </a:moveTo>
                <a:cubicBezTo>
                  <a:pt x="9265" y="7104"/>
                  <a:pt x="9221" y="7131"/>
                  <a:pt x="9302" y="7293"/>
                </a:cubicBezTo>
                <a:cubicBezTo>
                  <a:pt x="9469" y="7292"/>
                  <a:pt x="9594" y="7154"/>
                  <a:pt x="9525" y="6945"/>
                </a:cubicBezTo>
                <a:cubicBezTo>
                  <a:pt x="9452" y="6872"/>
                  <a:pt x="9429" y="6847"/>
                  <a:pt x="9351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ection 4.4 – Multiplying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8280" y="6589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22" y="18306"/>
                </a:moveTo>
                <a:lnTo>
                  <a:pt x="3522" y="1830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To multiply decimals, place the longer number on top and multiply as usual.  The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nt up the number of decimal places in both of the factors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.  Place the decimal in your answer so that it has 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ame number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 of decimal places.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    3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  15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0185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 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33640" y="6473880"/>
            <a:ext cx="9360" cy="363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3150" y="18083"/>
                </a:moveTo>
                <a:cubicBezTo>
                  <a:pt x="3158" y="18050"/>
                  <a:pt x="3167" y="18016"/>
                  <a:pt x="3175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6840" y="3438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520" y="9550"/>
                </a:moveTo>
                <a:lnTo>
                  <a:pt x="16520" y="955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77000" y="4054320"/>
            <a:ext cx="2179800" cy="795600"/>
          </a:xfrm>
          <a:custGeom>
            <a:avLst/>
            <a:gdLst/>
            <a:ahLst/>
            <a:rect l="l" t="t" r="r" b="b"/>
            <a:pathLst>
              <a:path w="6053" h="2209">
                <a:moveTo>
                  <a:pt x="20141" y="11485"/>
                </a:moveTo>
                <a:cubicBezTo>
                  <a:pt x="20192" y="11653"/>
                  <a:pt x="20168" y="11497"/>
                  <a:pt x="20117" y="11609"/>
                </a:cubicBezTo>
                <a:cubicBezTo>
                  <a:pt x="20075" y="11733"/>
                  <a:pt x="20067" y="11758"/>
                  <a:pt x="20042" y="11832"/>
                </a:cubicBezTo>
                <a:cubicBezTo>
                  <a:pt x="20241" y="11787"/>
                  <a:pt x="20324" y="11765"/>
                  <a:pt x="20489" y="11881"/>
                </a:cubicBezTo>
              </a:path>
              <a:path w="6053" h="2209">
                <a:moveTo>
                  <a:pt x="20489" y="11361"/>
                </a:moveTo>
                <a:cubicBezTo>
                  <a:pt x="20489" y="11625"/>
                  <a:pt x="20489" y="11890"/>
                  <a:pt x="20489" y="12154"/>
                </a:cubicBezTo>
              </a:path>
              <a:path w="6053" h="2209">
                <a:moveTo>
                  <a:pt x="20985" y="11633"/>
                </a:moveTo>
                <a:cubicBezTo>
                  <a:pt x="21022" y="11531"/>
                  <a:pt x="21074" y="11482"/>
                  <a:pt x="21158" y="11410"/>
                </a:cubicBezTo>
                <a:cubicBezTo>
                  <a:pt x="21226" y="11732"/>
                  <a:pt x="21118" y="11880"/>
                  <a:pt x="20935" y="12154"/>
                </a:cubicBezTo>
                <a:cubicBezTo>
                  <a:pt x="20910" y="12187"/>
                  <a:pt x="20886" y="12221"/>
                  <a:pt x="20861" y="12254"/>
                </a:cubicBezTo>
                <a:cubicBezTo>
                  <a:pt x="21013" y="12119"/>
                  <a:pt x="21067" y="12043"/>
                  <a:pt x="21258" y="12129"/>
                </a:cubicBezTo>
              </a:path>
              <a:path w="6053" h="2209">
                <a:moveTo>
                  <a:pt x="21927" y="11609"/>
                </a:moveTo>
                <a:cubicBezTo>
                  <a:pt x="21937" y="11448"/>
                  <a:pt x="21892" y="11221"/>
                  <a:pt x="21654" y="11336"/>
                </a:cubicBezTo>
                <a:cubicBezTo>
                  <a:pt x="21509" y="11457"/>
                  <a:pt x="21461" y="11494"/>
                  <a:pt x="21456" y="11633"/>
                </a:cubicBezTo>
                <a:cubicBezTo>
                  <a:pt x="21473" y="11666"/>
                  <a:pt x="21489" y="11700"/>
                  <a:pt x="21506" y="11733"/>
                </a:cubicBezTo>
                <a:cubicBezTo>
                  <a:pt x="21719" y="11670"/>
                  <a:pt x="21839" y="11643"/>
                  <a:pt x="21903" y="11410"/>
                </a:cubicBezTo>
                <a:cubicBezTo>
                  <a:pt x="21933" y="11626"/>
                  <a:pt x="21953" y="11840"/>
                  <a:pt x="21977" y="12055"/>
                </a:cubicBezTo>
                <a:cubicBezTo>
                  <a:pt x="21977" y="12063"/>
                  <a:pt x="21977" y="12072"/>
                  <a:pt x="21977" y="12080"/>
                </a:cubicBezTo>
              </a:path>
              <a:path w="6053" h="2209">
                <a:moveTo>
                  <a:pt x="22423" y="11261"/>
                </a:moveTo>
                <a:cubicBezTo>
                  <a:pt x="22474" y="11465"/>
                  <a:pt x="22488" y="11674"/>
                  <a:pt x="22523" y="11881"/>
                </a:cubicBezTo>
                <a:cubicBezTo>
                  <a:pt x="22539" y="11977"/>
                  <a:pt x="22539" y="12004"/>
                  <a:pt x="22572" y="12080"/>
                </a:cubicBezTo>
              </a:path>
              <a:path w="6053" h="2209">
                <a:moveTo>
                  <a:pt x="19397" y="12452"/>
                </a:moveTo>
                <a:cubicBezTo>
                  <a:pt x="19580" y="12657"/>
                  <a:pt x="19712" y="12846"/>
                  <a:pt x="19819" y="13097"/>
                </a:cubicBezTo>
              </a:path>
              <a:path w="6053" h="2209">
                <a:moveTo>
                  <a:pt x="19918" y="12452"/>
                </a:moveTo>
                <a:cubicBezTo>
                  <a:pt x="19817" y="12665"/>
                  <a:pt x="19754" y="12899"/>
                  <a:pt x="19670" y="13122"/>
                </a:cubicBezTo>
              </a:path>
              <a:path w="6053" h="2209">
                <a:moveTo>
                  <a:pt x="21853" y="12477"/>
                </a:moveTo>
                <a:cubicBezTo>
                  <a:pt x="22026" y="12433"/>
                  <a:pt x="22143" y="12496"/>
                  <a:pt x="21977" y="12675"/>
                </a:cubicBezTo>
                <a:cubicBezTo>
                  <a:pt x="21944" y="12700"/>
                  <a:pt x="21911" y="12725"/>
                  <a:pt x="21878" y="12750"/>
                </a:cubicBezTo>
                <a:cubicBezTo>
                  <a:pt x="21861" y="12758"/>
                  <a:pt x="21845" y="12766"/>
                  <a:pt x="21828" y="12774"/>
                </a:cubicBezTo>
                <a:cubicBezTo>
                  <a:pt x="21917" y="12656"/>
                  <a:pt x="22092" y="12625"/>
                  <a:pt x="22151" y="12824"/>
                </a:cubicBezTo>
                <a:cubicBezTo>
                  <a:pt x="22219" y="13055"/>
                  <a:pt x="21846" y="13128"/>
                  <a:pt x="21704" y="13072"/>
                </a:cubicBezTo>
                <a:cubicBezTo>
                  <a:pt x="21679" y="13047"/>
                  <a:pt x="21655" y="13023"/>
                  <a:pt x="21630" y="12998"/>
                </a:cubicBezTo>
              </a:path>
              <a:path w="6053" h="2209">
                <a:moveTo>
                  <a:pt x="22796" y="12402"/>
                </a:moveTo>
                <a:cubicBezTo>
                  <a:pt x="22726" y="12433"/>
                  <a:pt x="22573" y="12441"/>
                  <a:pt x="22523" y="12477"/>
                </a:cubicBezTo>
                <a:cubicBezTo>
                  <a:pt x="22476" y="12511"/>
                  <a:pt x="22457" y="12648"/>
                  <a:pt x="22448" y="12700"/>
                </a:cubicBezTo>
                <a:cubicBezTo>
                  <a:pt x="22587" y="12681"/>
                  <a:pt x="22705" y="12599"/>
                  <a:pt x="22845" y="12700"/>
                </a:cubicBezTo>
                <a:cubicBezTo>
                  <a:pt x="23106" y="12888"/>
                  <a:pt x="22660" y="12946"/>
                  <a:pt x="22597" y="12948"/>
                </a:cubicBezTo>
                <a:cubicBezTo>
                  <a:pt x="22556" y="12948"/>
                  <a:pt x="22514" y="12948"/>
                  <a:pt x="22473" y="12948"/>
                </a:cubicBezTo>
              </a:path>
              <a:path w="6053" h="2209">
                <a:moveTo>
                  <a:pt x="18827" y="13370"/>
                </a:moveTo>
                <a:cubicBezTo>
                  <a:pt x="19307" y="13370"/>
                  <a:pt x="19785" y="13411"/>
                  <a:pt x="20265" y="13419"/>
                </a:cubicBezTo>
                <a:cubicBezTo>
                  <a:pt x="21416" y="13437"/>
                  <a:pt x="22566" y="13488"/>
                  <a:pt x="23713" y="13419"/>
                </a:cubicBezTo>
                <a:cubicBezTo>
                  <a:pt x="23754" y="13419"/>
                  <a:pt x="23796" y="13419"/>
                  <a:pt x="23837" y="13419"/>
                </a:cubicBezTo>
              </a:path>
              <a:path w="6053" h="2209">
                <a:moveTo>
                  <a:pt x="20712" y="12229"/>
                </a:moveTo>
                <a:cubicBezTo>
                  <a:pt x="20694" y="12158"/>
                  <a:pt x="20678" y="12205"/>
                  <a:pt x="20737" y="12229"/>
                </a:cubicBezTo>
                <a:cubicBezTo>
                  <a:pt x="20766" y="12055"/>
                  <a:pt x="20639" y="12311"/>
                  <a:pt x="20737" y="12204"/>
                </a:cubicBezTo>
                <a:cubicBezTo>
                  <a:pt x="20826" y="12106"/>
                  <a:pt x="20709" y="12187"/>
                  <a:pt x="20687" y="12204"/>
                </a:cubicBezTo>
              </a:path>
              <a:path w="6053" h="2209">
                <a:moveTo>
                  <a:pt x="20762" y="12278"/>
                </a:moveTo>
                <a:cubicBezTo>
                  <a:pt x="20821" y="12301"/>
                  <a:pt x="20809" y="12321"/>
                  <a:pt x="20861" y="12353"/>
                </a:cubicBezTo>
                <a:cubicBezTo>
                  <a:pt x="20928" y="12394"/>
                  <a:pt x="21011" y="12420"/>
                  <a:pt x="21084" y="12427"/>
                </a:cubicBezTo>
                <a:cubicBezTo>
                  <a:pt x="21158" y="12434"/>
                  <a:pt x="21241" y="12384"/>
                  <a:pt x="21307" y="12353"/>
                </a:cubicBezTo>
                <a:cubicBezTo>
                  <a:pt x="21373" y="12322"/>
                  <a:pt x="21463" y="12317"/>
                  <a:pt x="21506" y="12254"/>
                </a:cubicBezTo>
                <a:cubicBezTo>
                  <a:pt x="21530" y="12219"/>
                  <a:pt x="21537" y="12191"/>
                  <a:pt x="21555" y="12154"/>
                </a:cubicBezTo>
                <a:cubicBezTo>
                  <a:pt x="21593" y="12218"/>
                  <a:pt x="21609" y="12263"/>
                  <a:pt x="21704" y="12278"/>
                </a:cubicBezTo>
                <a:cubicBezTo>
                  <a:pt x="21800" y="12294"/>
                  <a:pt x="21856" y="12282"/>
                  <a:pt x="21952" y="12278"/>
                </a:cubicBezTo>
                <a:cubicBezTo>
                  <a:pt x="22046" y="12274"/>
                  <a:pt x="22129" y="12254"/>
                  <a:pt x="22225" y="12254"/>
                </a:cubicBezTo>
                <a:cubicBezTo>
                  <a:pt x="22323" y="12254"/>
                  <a:pt x="22334" y="12209"/>
                  <a:pt x="22374" y="12129"/>
                </a:cubicBezTo>
                <a:cubicBezTo>
                  <a:pt x="22400" y="12226"/>
                  <a:pt x="22395" y="12259"/>
                  <a:pt x="22523" y="12278"/>
                </a:cubicBezTo>
                <a:cubicBezTo>
                  <a:pt x="22622" y="12293"/>
                  <a:pt x="22726" y="12277"/>
                  <a:pt x="22820" y="12254"/>
                </a:cubicBezTo>
                <a:cubicBezTo>
                  <a:pt x="22964" y="12218"/>
                  <a:pt x="22971" y="12236"/>
                  <a:pt x="23068" y="12129"/>
                </a:cubicBezTo>
                <a:cubicBezTo>
                  <a:pt x="23123" y="12069"/>
                  <a:pt x="23118" y="12056"/>
                  <a:pt x="23118" y="11981"/>
                </a:cubicBezTo>
              </a:path>
              <a:path w="6053" h="2209">
                <a:moveTo>
                  <a:pt x="24085" y="11534"/>
                </a:moveTo>
                <a:cubicBezTo>
                  <a:pt x="24169" y="11534"/>
                  <a:pt x="24228" y="11499"/>
                  <a:pt x="24309" y="11485"/>
                </a:cubicBezTo>
                <a:cubicBezTo>
                  <a:pt x="24325" y="11485"/>
                  <a:pt x="24342" y="11485"/>
                  <a:pt x="24358" y="11485"/>
                </a:cubicBezTo>
                <a:cubicBezTo>
                  <a:pt x="24384" y="11599"/>
                  <a:pt x="24342" y="11625"/>
                  <a:pt x="24259" y="11708"/>
                </a:cubicBezTo>
                <a:cubicBezTo>
                  <a:pt x="24362" y="11669"/>
                  <a:pt x="24374" y="11690"/>
                  <a:pt x="24433" y="11782"/>
                </a:cubicBezTo>
                <a:cubicBezTo>
                  <a:pt x="24369" y="11838"/>
                  <a:pt x="24310" y="11868"/>
                  <a:pt x="24234" y="11906"/>
                </a:cubicBezTo>
              </a:path>
              <a:path w="6053" h="2209">
                <a:moveTo>
                  <a:pt x="22374" y="12998"/>
                </a:moveTo>
                <a:cubicBezTo>
                  <a:pt x="22374" y="13095"/>
                  <a:pt x="22378" y="13109"/>
                  <a:pt x="22473" y="13146"/>
                </a:cubicBezTo>
                <a:cubicBezTo>
                  <a:pt x="22595" y="13194"/>
                  <a:pt x="22696" y="13158"/>
                  <a:pt x="22820" y="13146"/>
                </a:cubicBezTo>
                <a:cubicBezTo>
                  <a:pt x="22917" y="13137"/>
                  <a:pt x="23028" y="13134"/>
                  <a:pt x="23093" y="13047"/>
                </a:cubicBezTo>
                <a:cubicBezTo>
                  <a:pt x="23110" y="13024"/>
                  <a:pt x="23119" y="12977"/>
                  <a:pt x="23143" y="12948"/>
                </a:cubicBezTo>
              </a:path>
              <a:path w="6053" h="2209">
                <a:moveTo>
                  <a:pt x="24383" y="12229"/>
                </a:moveTo>
                <a:cubicBezTo>
                  <a:pt x="24430" y="12333"/>
                  <a:pt x="24433" y="12434"/>
                  <a:pt x="24433" y="12551"/>
                </a:cubicBezTo>
              </a:path>
              <a:path w="6053" h="2209">
                <a:moveTo>
                  <a:pt x="23961" y="12204"/>
                </a:moveTo>
                <a:cubicBezTo>
                  <a:pt x="24001" y="12311"/>
                  <a:pt x="24015" y="12388"/>
                  <a:pt x="24036" y="12502"/>
                </a:cubicBezTo>
              </a:path>
              <a:path w="6053" h="2209">
                <a:moveTo>
                  <a:pt x="23812" y="12353"/>
                </a:moveTo>
                <a:cubicBezTo>
                  <a:pt x="23911" y="12335"/>
                  <a:pt x="24010" y="12303"/>
                  <a:pt x="24110" y="12278"/>
                </a:cubicBezTo>
              </a:path>
              <a:path w="6053" h="2209">
                <a:moveTo>
                  <a:pt x="23837" y="12824"/>
                </a:moveTo>
                <a:cubicBezTo>
                  <a:pt x="24074" y="12811"/>
                  <a:pt x="24299" y="12768"/>
                  <a:pt x="24532" y="12725"/>
                </a:cubicBezTo>
                <a:cubicBezTo>
                  <a:pt x="24648" y="12704"/>
                  <a:pt x="24765" y="12669"/>
                  <a:pt x="24879" y="12650"/>
                </a:cubicBezTo>
              </a:path>
              <a:path w="6053" h="2209">
                <a:moveTo>
                  <a:pt x="24383" y="13171"/>
                </a:moveTo>
                <a:cubicBezTo>
                  <a:pt x="24431" y="13203"/>
                  <a:pt x="24406" y="13260"/>
                  <a:pt x="24383" y="13320"/>
                </a:cubicBezTo>
                <a:cubicBezTo>
                  <a:pt x="24469" y="13306"/>
                  <a:pt x="24523" y="13281"/>
                  <a:pt x="24606" y="13246"/>
                </a:cubicBezTo>
              </a:path>
              <a:path w="6053" h="2209">
                <a:moveTo>
                  <a:pt x="24557" y="13022"/>
                </a:moveTo>
                <a:cubicBezTo>
                  <a:pt x="24571" y="13157"/>
                  <a:pt x="24581" y="13283"/>
                  <a:pt x="24581" y="13419"/>
                </a:cubicBezTo>
                <a:cubicBezTo>
                  <a:pt x="24581" y="13436"/>
                  <a:pt x="24581" y="13452"/>
                  <a:pt x="24581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89840" y="4660920"/>
            <a:ext cx="1268280" cy="509400"/>
          </a:xfrm>
          <a:custGeom>
            <a:avLst/>
            <a:gdLst/>
            <a:ahLst/>
            <a:rect l="l" t="t" r="r" b="b"/>
            <a:pathLst>
              <a:path w="3523" h="1415">
                <a:moveTo>
                  <a:pt x="22299" y="12948"/>
                </a:moveTo>
                <a:cubicBezTo>
                  <a:pt x="22310" y="13023"/>
                  <a:pt x="22298" y="13035"/>
                  <a:pt x="22349" y="12973"/>
                </a:cubicBezTo>
                <a:cubicBezTo>
                  <a:pt x="22330" y="12986"/>
                  <a:pt x="22257" y="13010"/>
                  <a:pt x="22349" y="12973"/>
                </a:cubicBezTo>
              </a:path>
              <a:path w="3523" h="1415">
                <a:moveTo>
                  <a:pt x="19695" y="13742"/>
                </a:moveTo>
                <a:cubicBezTo>
                  <a:pt x="19695" y="13940"/>
                  <a:pt x="19695" y="14139"/>
                  <a:pt x="19695" y="14337"/>
                </a:cubicBezTo>
              </a:path>
              <a:path w="3523" h="1415">
                <a:moveTo>
                  <a:pt x="20414" y="13643"/>
                </a:moveTo>
                <a:cubicBezTo>
                  <a:pt x="20370" y="13649"/>
                  <a:pt x="20079" y="13647"/>
                  <a:pt x="20067" y="13692"/>
                </a:cubicBezTo>
                <a:cubicBezTo>
                  <a:pt x="20051" y="13753"/>
                  <a:pt x="20067" y="13852"/>
                  <a:pt x="20067" y="13915"/>
                </a:cubicBezTo>
                <a:cubicBezTo>
                  <a:pt x="20178" y="13878"/>
                  <a:pt x="20187" y="13821"/>
                  <a:pt x="20315" y="13866"/>
                </a:cubicBezTo>
                <a:cubicBezTo>
                  <a:pt x="20512" y="13935"/>
                  <a:pt x="20483" y="14094"/>
                  <a:pt x="20315" y="14188"/>
                </a:cubicBezTo>
                <a:cubicBezTo>
                  <a:pt x="20219" y="14242"/>
                  <a:pt x="20132" y="14196"/>
                  <a:pt x="20042" y="14163"/>
                </a:cubicBezTo>
              </a:path>
              <a:path w="3523" h="1415">
                <a:moveTo>
                  <a:pt x="20836" y="13692"/>
                </a:moveTo>
                <a:cubicBezTo>
                  <a:pt x="20787" y="13896"/>
                  <a:pt x="20772" y="14030"/>
                  <a:pt x="20786" y="14238"/>
                </a:cubicBezTo>
                <a:cubicBezTo>
                  <a:pt x="20987" y="14256"/>
                  <a:pt x="21297" y="14199"/>
                  <a:pt x="21233" y="13891"/>
                </a:cubicBezTo>
                <a:cubicBezTo>
                  <a:pt x="21204" y="13753"/>
                  <a:pt x="21065" y="13702"/>
                  <a:pt x="20960" y="13643"/>
                </a:cubicBezTo>
              </a:path>
              <a:path w="3523" h="1415">
                <a:moveTo>
                  <a:pt x="21630" y="13742"/>
                </a:moveTo>
                <a:cubicBezTo>
                  <a:pt x="21651" y="13955"/>
                  <a:pt x="21664" y="14151"/>
                  <a:pt x="21630" y="14362"/>
                </a:cubicBezTo>
              </a:path>
              <a:path w="3523" h="1415">
                <a:moveTo>
                  <a:pt x="22349" y="13816"/>
                </a:moveTo>
                <a:cubicBezTo>
                  <a:pt x="22230" y="13804"/>
                  <a:pt x="22131" y="13864"/>
                  <a:pt x="22027" y="13940"/>
                </a:cubicBezTo>
                <a:cubicBezTo>
                  <a:pt x="22197" y="14021"/>
                  <a:pt x="22421" y="14069"/>
                  <a:pt x="22523" y="14238"/>
                </a:cubicBezTo>
                <a:cubicBezTo>
                  <a:pt x="22523" y="14255"/>
                  <a:pt x="22523" y="14271"/>
                  <a:pt x="22523" y="14288"/>
                </a:cubicBezTo>
                <a:cubicBezTo>
                  <a:pt x="22317" y="14351"/>
                  <a:pt x="22249" y="14308"/>
                  <a:pt x="22299" y="14064"/>
                </a:cubicBezTo>
                <a:cubicBezTo>
                  <a:pt x="22338" y="13947"/>
                  <a:pt x="22339" y="13928"/>
                  <a:pt x="22374" y="13866"/>
                </a:cubicBezTo>
              </a:path>
              <a:path w="3523" h="1415">
                <a:moveTo>
                  <a:pt x="22969" y="13717"/>
                </a:moveTo>
                <a:cubicBezTo>
                  <a:pt x="22765" y="13750"/>
                  <a:pt x="22724" y="13715"/>
                  <a:pt x="22671" y="13940"/>
                </a:cubicBezTo>
                <a:cubicBezTo>
                  <a:pt x="22671" y="13957"/>
                  <a:pt x="22671" y="13973"/>
                  <a:pt x="22671" y="13990"/>
                </a:cubicBezTo>
                <a:cubicBezTo>
                  <a:pt x="22788" y="13966"/>
                  <a:pt x="22965" y="13858"/>
                  <a:pt x="23093" y="13915"/>
                </a:cubicBezTo>
                <a:cubicBezTo>
                  <a:pt x="23339" y="14025"/>
                  <a:pt x="23180" y="14239"/>
                  <a:pt x="22994" y="14263"/>
                </a:cubicBezTo>
                <a:cubicBezTo>
                  <a:pt x="22936" y="14263"/>
                  <a:pt x="22878" y="14263"/>
                  <a:pt x="22820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8040" y="5106960"/>
            <a:ext cx="1098720" cy="196920"/>
          </a:xfrm>
          <a:custGeom>
            <a:avLst/>
            <a:gdLst/>
            <a:ahLst/>
            <a:rect l="l" t="t" r="r" b="b"/>
            <a:pathLst>
              <a:path w="3052" h="547">
                <a:moveTo>
                  <a:pt x="23490" y="14263"/>
                </a:moveTo>
                <a:cubicBezTo>
                  <a:pt x="23474" y="14312"/>
                  <a:pt x="23476" y="14366"/>
                  <a:pt x="23440" y="14412"/>
                </a:cubicBezTo>
                <a:cubicBezTo>
                  <a:pt x="23376" y="14494"/>
                  <a:pt x="23332" y="14503"/>
                  <a:pt x="23242" y="14536"/>
                </a:cubicBezTo>
                <a:cubicBezTo>
                  <a:pt x="23176" y="14560"/>
                  <a:pt x="23123" y="14560"/>
                  <a:pt x="23044" y="14560"/>
                </a:cubicBezTo>
                <a:cubicBezTo>
                  <a:pt x="22980" y="14560"/>
                  <a:pt x="22928" y="14556"/>
                  <a:pt x="22870" y="14536"/>
                </a:cubicBezTo>
                <a:cubicBezTo>
                  <a:pt x="22788" y="14508"/>
                  <a:pt x="22752" y="14466"/>
                  <a:pt x="22721" y="14387"/>
                </a:cubicBezTo>
                <a:cubicBezTo>
                  <a:pt x="22701" y="14337"/>
                  <a:pt x="22701" y="14294"/>
                  <a:pt x="22696" y="14238"/>
                </a:cubicBezTo>
                <a:cubicBezTo>
                  <a:pt x="22696" y="14324"/>
                  <a:pt x="22680" y="14380"/>
                  <a:pt x="22671" y="14461"/>
                </a:cubicBezTo>
                <a:cubicBezTo>
                  <a:pt x="22663" y="14534"/>
                  <a:pt x="22681" y="14579"/>
                  <a:pt x="22597" y="14610"/>
                </a:cubicBezTo>
                <a:cubicBezTo>
                  <a:pt x="22541" y="14631"/>
                  <a:pt x="22461" y="14644"/>
                  <a:pt x="22399" y="14635"/>
                </a:cubicBezTo>
                <a:cubicBezTo>
                  <a:pt x="22347" y="14628"/>
                  <a:pt x="22277" y="14623"/>
                  <a:pt x="22225" y="14610"/>
                </a:cubicBezTo>
                <a:cubicBezTo>
                  <a:pt x="22172" y="14597"/>
                  <a:pt x="22150" y="14512"/>
                  <a:pt x="22126" y="14461"/>
                </a:cubicBezTo>
                <a:cubicBezTo>
                  <a:pt x="22101" y="14408"/>
                  <a:pt x="22095" y="14360"/>
                  <a:pt x="22076" y="14312"/>
                </a:cubicBezTo>
                <a:cubicBezTo>
                  <a:pt x="22080" y="14390"/>
                  <a:pt x="22086" y="14478"/>
                  <a:pt x="22076" y="14536"/>
                </a:cubicBezTo>
                <a:cubicBezTo>
                  <a:pt x="22061" y="14628"/>
                  <a:pt x="22019" y="14629"/>
                  <a:pt x="21927" y="14660"/>
                </a:cubicBezTo>
                <a:cubicBezTo>
                  <a:pt x="21844" y="14688"/>
                  <a:pt x="21810" y="14678"/>
                  <a:pt x="21729" y="14660"/>
                </a:cubicBezTo>
                <a:cubicBezTo>
                  <a:pt x="21653" y="14643"/>
                  <a:pt x="21577" y="14575"/>
                  <a:pt x="21530" y="14511"/>
                </a:cubicBezTo>
                <a:cubicBezTo>
                  <a:pt x="21487" y="14452"/>
                  <a:pt x="21452" y="14384"/>
                  <a:pt x="21431" y="14312"/>
                </a:cubicBezTo>
                <a:cubicBezTo>
                  <a:pt x="21396" y="14279"/>
                  <a:pt x="21388" y="14257"/>
                  <a:pt x="21406" y="14213"/>
                </a:cubicBezTo>
                <a:cubicBezTo>
                  <a:pt x="21406" y="14289"/>
                  <a:pt x="21403" y="14314"/>
                  <a:pt x="21382" y="14387"/>
                </a:cubicBezTo>
                <a:cubicBezTo>
                  <a:pt x="21357" y="14471"/>
                  <a:pt x="21315" y="14579"/>
                  <a:pt x="21258" y="14635"/>
                </a:cubicBezTo>
                <a:cubicBezTo>
                  <a:pt x="21214" y="14679"/>
                  <a:pt x="21120" y="14726"/>
                  <a:pt x="21059" y="14734"/>
                </a:cubicBezTo>
                <a:cubicBezTo>
                  <a:pt x="20952" y="14748"/>
                  <a:pt x="20887" y="14715"/>
                  <a:pt x="20836" y="14610"/>
                </a:cubicBezTo>
                <a:cubicBezTo>
                  <a:pt x="20795" y="14526"/>
                  <a:pt x="20792" y="14403"/>
                  <a:pt x="20762" y="14312"/>
                </a:cubicBezTo>
                <a:cubicBezTo>
                  <a:pt x="20741" y="14249"/>
                  <a:pt x="20737" y="14217"/>
                  <a:pt x="20662" y="14213"/>
                </a:cubicBezTo>
                <a:cubicBezTo>
                  <a:pt x="20584" y="14209"/>
                  <a:pt x="20586" y="14284"/>
                  <a:pt x="20563" y="14312"/>
                </a:cubicBezTo>
                <a:cubicBezTo>
                  <a:pt x="20580" y="14320"/>
                  <a:pt x="20596" y="14329"/>
                  <a:pt x="20613" y="14337"/>
                </a:cubicBezTo>
                <a:cubicBezTo>
                  <a:pt x="20615" y="14322"/>
                  <a:pt x="20660" y="14145"/>
                  <a:pt x="20588" y="14188"/>
                </a:cubicBezTo>
                <a:cubicBezTo>
                  <a:pt x="20525" y="14226"/>
                  <a:pt x="20548" y="14225"/>
                  <a:pt x="20513" y="14312"/>
                </a:cubicBezTo>
                <a:cubicBezTo>
                  <a:pt x="20513" y="14240"/>
                  <a:pt x="20538" y="14187"/>
                  <a:pt x="20464" y="14312"/>
                </a:cubicBezTo>
                <a:cubicBezTo>
                  <a:pt x="20388" y="14441"/>
                  <a:pt x="20536" y="14315"/>
                  <a:pt x="20563" y="14288"/>
                </a:cubicBezTo>
                <a:cubicBezTo>
                  <a:pt x="20496" y="14310"/>
                  <a:pt x="20461" y="14297"/>
                  <a:pt x="20489" y="14362"/>
                </a:cubicBezTo>
                <a:cubicBezTo>
                  <a:pt x="20508" y="14407"/>
                  <a:pt x="20504" y="14397"/>
                  <a:pt x="20538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Examples:  Let’s work on placing the decimal point correct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78.26 x 12 = 93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3.9612 x 2.3 = 9110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5.91 x 9.4 = 55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10.631 x 5 = 53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) 8.93013 x 0.82341 = 735315834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66920" y="1776240"/>
            <a:ext cx="507960" cy="679680"/>
          </a:xfrm>
          <a:custGeom>
            <a:avLst/>
            <a:gdLst/>
            <a:ahLst/>
            <a:rect l="l" t="t" r="r" b="b"/>
            <a:pathLst>
              <a:path w="1415" h="1886">
                <a:moveTo>
                  <a:pt x="3795" y="6623"/>
                </a:moveTo>
                <a:cubicBezTo>
                  <a:pt x="3837" y="6723"/>
                  <a:pt x="3885" y="6826"/>
                  <a:pt x="4018" y="6821"/>
                </a:cubicBezTo>
                <a:cubicBezTo>
                  <a:pt x="4115" y="6817"/>
                  <a:pt x="4112" y="6742"/>
                  <a:pt x="4142" y="6672"/>
                </a:cubicBezTo>
                <a:cubicBezTo>
                  <a:pt x="4218" y="6765"/>
                  <a:pt x="4337" y="6896"/>
                  <a:pt x="4465" y="6772"/>
                </a:cubicBezTo>
                <a:cubicBezTo>
                  <a:pt x="4506" y="6689"/>
                  <a:pt x="4514" y="6672"/>
                  <a:pt x="4539" y="6623"/>
                </a:cubicBezTo>
              </a:path>
              <a:path w="1415" h="1886">
                <a:moveTo>
                  <a:pt x="4167" y="5035"/>
                </a:moveTo>
                <a:cubicBezTo>
                  <a:pt x="4288" y="4946"/>
                  <a:pt x="4427" y="4842"/>
                  <a:pt x="4490" y="5060"/>
                </a:cubicBezTo>
                <a:cubicBezTo>
                  <a:pt x="4561" y="5306"/>
                  <a:pt x="4339" y="5368"/>
                  <a:pt x="4167" y="5358"/>
                </a:cubicBezTo>
                <a:cubicBezTo>
                  <a:pt x="4071" y="5203"/>
                  <a:pt x="4287" y="5223"/>
                  <a:pt x="4415" y="5234"/>
                </a:cubicBezTo>
                <a:cubicBezTo>
                  <a:pt x="4521" y="5255"/>
                  <a:pt x="4548" y="5250"/>
                  <a:pt x="4589" y="5308"/>
                </a:cubicBezTo>
              </a:path>
              <a:path w="1415" h="1886">
                <a:moveTo>
                  <a:pt x="5135" y="5159"/>
                </a:moveTo>
                <a:cubicBezTo>
                  <a:pt x="5143" y="5230"/>
                  <a:pt x="5150" y="5301"/>
                  <a:pt x="5184" y="5358"/>
                </a:cubicBezTo>
              </a:path>
              <a:path w="1415" h="1886">
                <a:moveTo>
                  <a:pt x="4986" y="5308"/>
                </a:moveTo>
                <a:cubicBezTo>
                  <a:pt x="5066" y="5268"/>
                  <a:pt x="5123" y="5247"/>
                  <a:pt x="5209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186696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6102" y="5184"/>
                </a:moveTo>
                <a:cubicBezTo>
                  <a:pt x="5991" y="5240"/>
                  <a:pt x="6012" y="5260"/>
                  <a:pt x="6003" y="5407"/>
                </a:cubicBezTo>
                <a:cubicBezTo>
                  <a:pt x="6071" y="5414"/>
                  <a:pt x="6294" y="5405"/>
                  <a:pt x="6226" y="5283"/>
                </a:cubicBezTo>
                <a:cubicBezTo>
                  <a:pt x="6180" y="5237"/>
                  <a:pt x="6167" y="5223"/>
                  <a:pt x="6127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90840" y="1857240"/>
            <a:ext cx="46080" cy="7164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6921" y="5234"/>
                </a:moveTo>
                <a:cubicBezTo>
                  <a:pt x="6998" y="5195"/>
                  <a:pt x="7013" y="5196"/>
                  <a:pt x="7045" y="5159"/>
                </a:cubicBezTo>
              </a:path>
              <a:path w="125" h="200">
                <a:moveTo>
                  <a:pt x="6921" y="5358"/>
                </a:moveTo>
                <a:cubicBezTo>
                  <a:pt x="6962" y="5341"/>
                  <a:pt x="7004" y="5325"/>
                  <a:pt x="7045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30680" y="1741320"/>
            <a:ext cx="161640" cy="14292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7863" y="4936"/>
                </a:moveTo>
                <a:cubicBezTo>
                  <a:pt x="7941" y="4871"/>
                  <a:pt x="7941" y="4853"/>
                  <a:pt x="8037" y="4837"/>
                </a:cubicBezTo>
                <a:cubicBezTo>
                  <a:pt x="8066" y="5002"/>
                  <a:pt x="8057" y="5080"/>
                  <a:pt x="7987" y="5234"/>
                </a:cubicBezTo>
                <a:cubicBezTo>
                  <a:pt x="8093" y="5199"/>
                  <a:pt x="8201" y="5152"/>
                  <a:pt x="8310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90760" y="26877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4142" y="7541"/>
                </a:moveTo>
                <a:cubicBezTo>
                  <a:pt x="4168" y="7655"/>
                  <a:pt x="4155" y="7660"/>
                  <a:pt x="4142" y="7764"/>
                </a:cubicBezTo>
                <a:cubicBezTo>
                  <a:pt x="4220" y="7744"/>
                  <a:pt x="4272" y="7718"/>
                  <a:pt x="4366" y="7714"/>
                </a:cubicBezTo>
                <a:cubicBezTo>
                  <a:pt x="4407" y="7714"/>
                  <a:pt x="4415" y="7714"/>
                  <a:pt x="4440" y="7714"/>
                </a:cubicBezTo>
              </a:path>
              <a:path w="373" h="522">
                <a:moveTo>
                  <a:pt x="4390" y="7466"/>
                </a:moveTo>
                <a:cubicBezTo>
                  <a:pt x="4408" y="7623"/>
                  <a:pt x="4443" y="7787"/>
                  <a:pt x="4490" y="7938"/>
                </a:cubicBezTo>
                <a:cubicBezTo>
                  <a:pt x="4498" y="7954"/>
                  <a:pt x="4506" y="7971"/>
                  <a:pt x="4514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9080" y="2340000"/>
            <a:ext cx="420840" cy="438120"/>
          </a:xfrm>
          <a:custGeom>
            <a:avLst/>
            <a:gdLst/>
            <a:ahLst/>
            <a:rect l="l" t="t" r="r" b="b"/>
            <a:pathLst>
              <a:path w="1167" h="1216">
                <a:moveTo>
                  <a:pt x="10220" y="6573"/>
                </a:moveTo>
                <a:cubicBezTo>
                  <a:pt x="10193" y="6675"/>
                  <a:pt x="10179" y="6799"/>
                  <a:pt x="10096" y="6871"/>
                </a:cubicBezTo>
                <a:cubicBezTo>
                  <a:pt x="9982" y="6970"/>
                  <a:pt x="9791" y="6966"/>
                  <a:pt x="9649" y="6970"/>
                </a:cubicBezTo>
                <a:cubicBezTo>
                  <a:pt x="9509" y="6974"/>
                  <a:pt x="9491" y="6986"/>
                  <a:pt x="9475" y="6846"/>
                </a:cubicBezTo>
                <a:cubicBezTo>
                  <a:pt x="9495" y="6924"/>
                  <a:pt x="9542" y="7062"/>
                  <a:pt x="9426" y="7094"/>
                </a:cubicBezTo>
                <a:cubicBezTo>
                  <a:pt x="9320" y="7123"/>
                  <a:pt x="9261" y="7008"/>
                  <a:pt x="9203" y="6945"/>
                </a:cubicBezTo>
                <a:cubicBezTo>
                  <a:pt x="9157" y="6894"/>
                  <a:pt x="9124" y="6860"/>
                  <a:pt x="9103" y="6796"/>
                </a:cubicBezTo>
              </a:path>
              <a:path w="1167" h="1216">
                <a:moveTo>
                  <a:pt x="9103" y="6598"/>
                </a:moveTo>
                <a:cubicBezTo>
                  <a:pt x="9019" y="6569"/>
                  <a:pt x="9137" y="6703"/>
                  <a:pt x="9128" y="6548"/>
                </a:cubicBezTo>
                <a:cubicBezTo>
                  <a:pt x="9121" y="6419"/>
                  <a:pt x="9061" y="6540"/>
                  <a:pt x="9054" y="6573"/>
                </a:cubicBezTo>
                <a:cubicBezTo>
                  <a:pt x="9139" y="6680"/>
                  <a:pt x="9179" y="6524"/>
                  <a:pt x="9153" y="6524"/>
                </a:cubicBezTo>
                <a:cubicBezTo>
                  <a:pt x="9086" y="6546"/>
                  <a:pt x="9065" y="6547"/>
                  <a:pt x="9054" y="6598"/>
                </a:cubicBezTo>
                <a:cubicBezTo>
                  <a:pt x="9066" y="6657"/>
                  <a:pt x="9188" y="6548"/>
                  <a:pt x="9128" y="6548"/>
                </a:cubicBezTo>
                <a:cubicBezTo>
                  <a:pt x="9043" y="6548"/>
                  <a:pt x="9054" y="6603"/>
                  <a:pt x="9103" y="6623"/>
                </a:cubicBezTo>
              </a:path>
              <a:path w="1167" h="1216">
                <a:moveTo>
                  <a:pt x="9748" y="7317"/>
                </a:moveTo>
                <a:cubicBezTo>
                  <a:pt x="9629" y="7377"/>
                  <a:pt x="9576" y="7342"/>
                  <a:pt x="9550" y="7491"/>
                </a:cubicBezTo>
                <a:cubicBezTo>
                  <a:pt x="9550" y="7508"/>
                  <a:pt x="9550" y="7524"/>
                  <a:pt x="9550" y="7541"/>
                </a:cubicBezTo>
                <a:cubicBezTo>
                  <a:pt x="9642" y="7488"/>
                  <a:pt x="9714" y="7474"/>
                  <a:pt x="9823" y="7466"/>
                </a:cubicBezTo>
                <a:cubicBezTo>
                  <a:pt x="9822" y="7661"/>
                  <a:pt x="9833" y="7622"/>
                  <a:pt x="9649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2880" y="3152880"/>
            <a:ext cx="61920" cy="4428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8756" y="8781"/>
                </a:moveTo>
                <a:cubicBezTo>
                  <a:pt x="8857" y="8797"/>
                  <a:pt x="8961" y="8867"/>
                  <a:pt x="8905" y="8781"/>
                </a:cubicBezTo>
                <a:cubicBezTo>
                  <a:pt x="8850" y="8696"/>
                  <a:pt x="8755" y="8809"/>
                  <a:pt x="8880" y="8880"/>
                </a:cubicBezTo>
                <a:cubicBezTo>
                  <a:pt x="8935" y="8760"/>
                  <a:pt x="8849" y="8689"/>
                  <a:pt x="8806" y="8806"/>
                </a:cubicBezTo>
                <a:cubicBezTo>
                  <a:pt x="8771" y="8901"/>
                  <a:pt x="8817" y="8862"/>
                  <a:pt x="8855" y="88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46240" y="343836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8186" y="9649"/>
                </a:moveTo>
                <a:cubicBezTo>
                  <a:pt x="8212" y="9613"/>
                  <a:pt x="8324" y="9467"/>
                  <a:pt x="8359" y="9599"/>
                </a:cubicBezTo>
                <a:cubicBezTo>
                  <a:pt x="8359" y="9695"/>
                  <a:pt x="8362" y="9727"/>
                  <a:pt x="8285" y="9748"/>
                </a:cubicBezTo>
                <a:cubicBezTo>
                  <a:pt x="8376" y="9748"/>
                  <a:pt x="8465" y="9783"/>
                  <a:pt x="8384" y="9897"/>
                </a:cubicBezTo>
                <a:cubicBezTo>
                  <a:pt x="8334" y="9922"/>
                  <a:pt x="8318" y="9930"/>
                  <a:pt x="8285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55960" y="3983040"/>
            <a:ext cx="36360" cy="27000"/>
          </a:xfrm>
          <a:custGeom>
            <a:avLst/>
            <a:gdLst/>
            <a:ahLst/>
            <a:rect l="l" t="t" r="r" b="b"/>
            <a:pathLst>
              <a:path w="101" h="75">
                <a:moveTo>
                  <a:pt x="8310" y="11088"/>
                </a:moveTo>
                <a:cubicBezTo>
                  <a:pt x="8238" y="11034"/>
                  <a:pt x="8301" y="11072"/>
                  <a:pt x="8285" y="11063"/>
                </a:cubicBezTo>
                <a:cubicBezTo>
                  <a:pt x="8137" y="10980"/>
                  <a:pt x="8394" y="11143"/>
                  <a:pt x="8285" y="11063"/>
                </a:cubicBezTo>
                <a:cubicBezTo>
                  <a:pt x="8130" y="10949"/>
                  <a:pt x="8332" y="11329"/>
                  <a:pt x="8310" y="11088"/>
                </a:cubicBezTo>
                <a:cubicBezTo>
                  <a:pt x="8303" y="11014"/>
                  <a:pt x="8213" y="11135"/>
                  <a:pt x="8285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2160" y="4232160"/>
            <a:ext cx="1000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8508" y="11832"/>
                </a:moveTo>
                <a:cubicBezTo>
                  <a:pt x="8559" y="11789"/>
                  <a:pt x="8743" y="11662"/>
                  <a:pt x="8731" y="11832"/>
                </a:cubicBezTo>
                <a:cubicBezTo>
                  <a:pt x="8723" y="11946"/>
                  <a:pt x="8666" y="12025"/>
                  <a:pt x="8607" y="12005"/>
                </a:cubicBezTo>
                <a:cubicBezTo>
                  <a:pt x="8680" y="11981"/>
                  <a:pt x="8704" y="11973"/>
                  <a:pt x="8756" y="11981"/>
                </a:cubicBezTo>
                <a:cubicBezTo>
                  <a:pt x="8775" y="12164"/>
                  <a:pt x="8670" y="12178"/>
                  <a:pt x="8508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98880" y="4768920"/>
            <a:ext cx="27000" cy="349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8632" y="13295"/>
                </a:moveTo>
                <a:cubicBezTo>
                  <a:pt x="8622" y="13358"/>
                  <a:pt x="8734" y="13307"/>
                  <a:pt x="8682" y="13271"/>
                </a:cubicBezTo>
                <a:cubicBezTo>
                  <a:pt x="8585" y="13204"/>
                  <a:pt x="8607" y="13389"/>
                  <a:pt x="8657" y="13345"/>
                </a:cubicBezTo>
                <a:cubicBezTo>
                  <a:pt x="8665" y="13328"/>
                  <a:pt x="8674" y="13312"/>
                  <a:pt x="8682" y="13295"/>
                </a:cubicBezTo>
                <a:cubicBezTo>
                  <a:pt x="8663" y="13240"/>
                  <a:pt x="8591" y="13360"/>
                  <a:pt x="8632" y="13320"/>
                </a:cubicBezTo>
                <a:cubicBezTo>
                  <a:pt x="8657" y="13271"/>
                  <a:pt x="8665" y="13255"/>
                  <a:pt x="8632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55920" y="2724120"/>
            <a:ext cx="44280" cy="187200"/>
          </a:xfrm>
          <a:custGeom>
            <a:avLst/>
            <a:gdLst/>
            <a:ahLst/>
            <a:rect l="l" t="t" r="r" b="b"/>
            <a:pathLst>
              <a:path w="125" h="522">
                <a:moveTo>
                  <a:pt x="6821" y="7565"/>
                </a:moveTo>
                <a:cubicBezTo>
                  <a:pt x="6859" y="7729"/>
                  <a:pt x="6917" y="7890"/>
                  <a:pt x="6945" y="8062"/>
                </a:cubicBezTo>
                <a:cubicBezTo>
                  <a:pt x="6945" y="8070"/>
                  <a:pt x="6945" y="8078"/>
                  <a:pt x="6945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44800" y="3490920"/>
            <a:ext cx="27000" cy="117360"/>
          </a:xfrm>
          <a:custGeom>
            <a:avLst/>
            <a:gdLst/>
            <a:ahLst/>
            <a:rect l="l" t="t" r="r" b="b"/>
            <a:pathLst>
              <a:path w="76" h="323">
                <a:moveTo>
                  <a:pt x="5680" y="9699"/>
                </a:moveTo>
                <a:cubicBezTo>
                  <a:pt x="5696" y="9808"/>
                  <a:pt x="5727" y="9911"/>
                  <a:pt x="5755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31920" y="3463920"/>
            <a:ext cx="142920" cy="14436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3423" y="9773"/>
                </a:moveTo>
                <a:cubicBezTo>
                  <a:pt x="3458" y="9702"/>
                  <a:pt x="3506" y="9673"/>
                  <a:pt x="3572" y="9624"/>
                </a:cubicBezTo>
                <a:cubicBezTo>
                  <a:pt x="3673" y="9772"/>
                  <a:pt x="3634" y="9819"/>
                  <a:pt x="3597" y="9996"/>
                </a:cubicBezTo>
                <a:cubicBezTo>
                  <a:pt x="3583" y="10063"/>
                  <a:pt x="3791" y="9891"/>
                  <a:pt x="3820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70280" y="5045040"/>
            <a:ext cx="13356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2973" y="14015"/>
                </a:moveTo>
                <a:cubicBezTo>
                  <a:pt x="12996" y="14122"/>
                  <a:pt x="13006" y="14227"/>
                  <a:pt x="13022" y="14337"/>
                </a:cubicBezTo>
              </a:path>
              <a:path w="373" h="323">
                <a:moveTo>
                  <a:pt x="13196" y="14039"/>
                </a:moveTo>
                <a:cubicBezTo>
                  <a:pt x="13136" y="14149"/>
                  <a:pt x="13128" y="14219"/>
                  <a:pt x="13196" y="14337"/>
                </a:cubicBezTo>
                <a:cubicBezTo>
                  <a:pt x="13319" y="14249"/>
                  <a:pt x="13426" y="14160"/>
                  <a:pt x="13271" y="14039"/>
                </a:cubicBezTo>
                <a:cubicBezTo>
                  <a:pt x="13254" y="14031"/>
                  <a:pt x="13238" y="14023"/>
                  <a:pt x="13221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0960" y="5562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088" y="15453"/>
                </a:moveTo>
                <a:lnTo>
                  <a:pt x="11088" y="154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1120" y="4313160"/>
            <a:ext cx="889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4390" y="12105"/>
                </a:moveTo>
                <a:cubicBezTo>
                  <a:pt x="4412" y="12018"/>
                  <a:pt x="4434" y="12015"/>
                  <a:pt x="4514" y="11981"/>
                </a:cubicBezTo>
                <a:cubicBezTo>
                  <a:pt x="4551" y="12223"/>
                  <a:pt x="4594" y="12086"/>
                  <a:pt x="4638" y="12229"/>
                </a:cubicBezTo>
                <a:cubicBezTo>
                  <a:pt x="4677" y="12358"/>
                  <a:pt x="4571" y="12437"/>
                  <a:pt x="4465" y="12452"/>
                </a:cubicBezTo>
                <a:cubicBezTo>
                  <a:pt x="4457" y="12452"/>
                  <a:pt x="4448" y="12452"/>
                  <a:pt x="4440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13000" y="4321080"/>
            <a:ext cx="44280" cy="81000"/>
          </a:xfrm>
          <a:custGeom>
            <a:avLst/>
            <a:gdLst/>
            <a:ahLst/>
            <a:rect l="l" t="t" r="r" b="b"/>
            <a:pathLst>
              <a:path w="125" h="225">
                <a:moveTo>
                  <a:pt x="6499" y="12005"/>
                </a:moveTo>
                <a:cubicBezTo>
                  <a:pt x="6436" y="12093"/>
                  <a:pt x="6437" y="12125"/>
                  <a:pt x="6424" y="12229"/>
                </a:cubicBezTo>
                <a:cubicBezTo>
                  <a:pt x="6543" y="12201"/>
                  <a:pt x="6632" y="12109"/>
                  <a:pt x="6474" y="12030"/>
                </a:cubicBezTo>
                <a:cubicBezTo>
                  <a:pt x="6466" y="12030"/>
                  <a:pt x="6457" y="12030"/>
                  <a:pt x="6449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73200" y="6161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871" y="17115"/>
                </a:moveTo>
                <a:lnTo>
                  <a:pt x="6871" y="1711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04920" y="5572080"/>
            <a:ext cx="831960" cy="142920"/>
          </a:xfrm>
          <a:custGeom>
            <a:avLst/>
            <a:gdLst/>
            <a:ahLst/>
            <a:rect l="l" t="t" r="r" b="b"/>
            <a:pathLst>
              <a:path w="2307" h="398">
                <a:moveTo>
                  <a:pt x="3349" y="15553"/>
                </a:moveTo>
                <a:cubicBezTo>
                  <a:pt x="3380" y="15641"/>
                  <a:pt x="3411" y="15651"/>
                  <a:pt x="3473" y="15726"/>
                </a:cubicBezTo>
                <a:cubicBezTo>
                  <a:pt x="3525" y="15789"/>
                  <a:pt x="3527" y="15842"/>
                  <a:pt x="3621" y="15850"/>
                </a:cubicBezTo>
                <a:cubicBezTo>
                  <a:pt x="3668" y="15854"/>
                  <a:pt x="3744" y="15863"/>
                  <a:pt x="3795" y="15801"/>
                </a:cubicBezTo>
                <a:cubicBezTo>
                  <a:pt x="3833" y="15755"/>
                  <a:pt x="3799" y="15690"/>
                  <a:pt x="3795" y="15652"/>
                </a:cubicBezTo>
                <a:cubicBezTo>
                  <a:pt x="3795" y="15602"/>
                  <a:pt x="3795" y="15586"/>
                  <a:pt x="3795" y="15553"/>
                </a:cubicBezTo>
                <a:cubicBezTo>
                  <a:pt x="3795" y="15653"/>
                  <a:pt x="3778" y="15701"/>
                  <a:pt x="3845" y="15776"/>
                </a:cubicBezTo>
                <a:cubicBezTo>
                  <a:pt x="3881" y="15816"/>
                  <a:pt x="4009" y="15878"/>
                  <a:pt x="4068" y="15850"/>
                </a:cubicBezTo>
                <a:cubicBezTo>
                  <a:pt x="4147" y="15812"/>
                  <a:pt x="4187" y="15761"/>
                  <a:pt x="4192" y="15677"/>
                </a:cubicBezTo>
                <a:cubicBezTo>
                  <a:pt x="4192" y="15660"/>
                  <a:pt x="4192" y="15644"/>
                  <a:pt x="4192" y="15627"/>
                </a:cubicBezTo>
                <a:cubicBezTo>
                  <a:pt x="4214" y="15674"/>
                  <a:pt x="4247" y="15797"/>
                  <a:pt x="4316" y="15825"/>
                </a:cubicBezTo>
                <a:cubicBezTo>
                  <a:pt x="4411" y="15864"/>
                  <a:pt x="4573" y="15826"/>
                  <a:pt x="4638" y="15751"/>
                </a:cubicBezTo>
                <a:cubicBezTo>
                  <a:pt x="4693" y="15688"/>
                  <a:pt x="4692" y="15630"/>
                  <a:pt x="4713" y="15553"/>
                </a:cubicBezTo>
                <a:cubicBezTo>
                  <a:pt x="4713" y="15427"/>
                  <a:pt x="4723" y="15690"/>
                  <a:pt x="4762" y="15726"/>
                </a:cubicBezTo>
                <a:cubicBezTo>
                  <a:pt x="4815" y="15775"/>
                  <a:pt x="4947" y="15806"/>
                  <a:pt x="5011" y="15751"/>
                </a:cubicBezTo>
                <a:cubicBezTo>
                  <a:pt x="5052" y="15716"/>
                  <a:pt x="5135" y="15612"/>
                  <a:pt x="5135" y="15553"/>
                </a:cubicBezTo>
                <a:cubicBezTo>
                  <a:pt x="5127" y="15536"/>
                  <a:pt x="5118" y="15520"/>
                  <a:pt x="5110" y="15503"/>
                </a:cubicBezTo>
                <a:cubicBezTo>
                  <a:pt x="5110" y="15599"/>
                  <a:pt x="5084" y="15717"/>
                  <a:pt x="5184" y="15776"/>
                </a:cubicBezTo>
                <a:cubicBezTo>
                  <a:pt x="5263" y="15823"/>
                  <a:pt x="5375" y="15845"/>
                  <a:pt x="5457" y="15801"/>
                </a:cubicBezTo>
                <a:cubicBezTo>
                  <a:pt x="5543" y="15754"/>
                  <a:pt x="5647" y="15674"/>
                  <a:pt x="5655" y="15577"/>
                </a:cubicBezTo>
                <a:cubicBezTo>
                  <a:pt x="5655" y="15519"/>
                  <a:pt x="5655" y="15511"/>
                  <a:pt x="5655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98760" y="5081760"/>
            <a:ext cx="115920" cy="1872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4688" y="14114"/>
                </a:moveTo>
                <a:cubicBezTo>
                  <a:pt x="4623" y="14193"/>
                  <a:pt x="4472" y="14166"/>
                  <a:pt x="4440" y="14263"/>
                </a:cubicBezTo>
                <a:cubicBezTo>
                  <a:pt x="4440" y="14355"/>
                  <a:pt x="4438" y="14381"/>
                  <a:pt x="4465" y="14436"/>
                </a:cubicBezTo>
                <a:cubicBezTo>
                  <a:pt x="4586" y="14386"/>
                  <a:pt x="4697" y="14297"/>
                  <a:pt x="4762" y="14461"/>
                </a:cubicBezTo>
                <a:cubicBezTo>
                  <a:pt x="4797" y="14550"/>
                  <a:pt x="4645" y="14616"/>
                  <a:pt x="4589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08200" y="5562720"/>
            <a:ext cx="909720" cy="161640"/>
          </a:xfrm>
          <a:custGeom>
            <a:avLst/>
            <a:gdLst/>
            <a:ahLst/>
            <a:rect l="l" t="t" r="r" b="b"/>
            <a:pathLst>
              <a:path w="2531" h="448">
                <a:moveTo>
                  <a:pt x="7268" y="15553"/>
                </a:moveTo>
                <a:cubicBezTo>
                  <a:pt x="7281" y="15619"/>
                  <a:pt x="7276" y="15624"/>
                  <a:pt x="7317" y="15677"/>
                </a:cubicBezTo>
                <a:cubicBezTo>
                  <a:pt x="7366" y="15739"/>
                  <a:pt x="7407" y="15828"/>
                  <a:pt x="7491" y="15825"/>
                </a:cubicBezTo>
                <a:cubicBezTo>
                  <a:pt x="7585" y="15822"/>
                  <a:pt x="7623" y="15697"/>
                  <a:pt x="7640" y="15627"/>
                </a:cubicBezTo>
                <a:cubicBezTo>
                  <a:pt x="7669" y="15699"/>
                  <a:pt x="7736" y="15974"/>
                  <a:pt x="7888" y="15900"/>
                </a:cubicBezTo>
                <a:cubicBezTo>
                  <a:pt x="7960" y="15865"/>
                  <a:pt x="8061" y="15760"/>
                  <a:pt x="8086" y="15677"/>
                </a:cubicBezTo>
                <a:cubicBezTo>
                  <a:pt x="8086" y="15660"/>
                  <a:pt x="8086" y="15644"/>
                  <a:pt x="8086" y="15627"/>
                </a:cubicBezTo>
                <a:cubicBezTo>
                  <a:pt x="8150" y="15755"/>
                  <a:pt x="8208" y="15920"/>
                  <a:pt x="8384" y="15850"/>
                </a:cubicBezTo>
                <a:cubicBezTo>
                  <a:pt x="8509" y="15800"/>
                  <a:pt x="8571" y="15731"/>
                  <a:pt x="8632" y="15627"/>
                </a:cubicBezTo>
                <a:cubicBezTo>
                  <a:pt x="8596" y="15520"/>
                  <a:pt x="8589" y="15752"/>
                  <a:pt x="8682" y="15776"/>
                </a:cubicBezTo>
                <a:cubicBezTo>
                  <a:pt x="8796" y="15806"/>
                  <a:pt x="8847" y="15751"/>
                  <a:pt x="8905" y="15677"/>
                </a:cubicBezTo>
                <a:cubicBezTo>
                  <a:pt x="8927" y="15633"/>
                  <a:pt x="8930" y="15622"/>
                  <a:pt x="8954" y="15602"/>
                </a:cubicBezTo>
                <a:cubicBezTo>
                  <a:pt x="9013" y="15734"/>
                  <a:pt x="9042" y="15838"/>
                  <a:pt x="9203" y="15875"/>
                </a:cubicBezTo>
                <a:cubicBezTo>
                  <a:pt x="9366" y="15913"/>
                  <a:pt x="9555" y="15801"/>
                  <a:pt x="9674" y="15701"/>
                </a:cubicBezTo>
                <a:cubicBezTo>
                  <a:pt x="9779" y="15613"/>
                  <a:pt x="9797" y="15552"/>
                  <a:pt x="9723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6240" y="5099040"/>
            <a:ext cx="1256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8310" y="14163"/>
                </a:moveTo>
                <a:cubicBezTo>
                  <a:pt x="8240" y="14173"/>
                  <a:pt x="8182" y="14222"/>
                  <a:pt x="8186" y="14312"/>
                </a:cubicBezTo>
                <a:cubicBezTo>
                  <a:pt x="8194" y="14329"/>
                  <a:pt x="8202" y="14345"/>
                  <a:pt x="8210" y="14362"/>
                </a:cubicBezTo>
                <a:cubicBezTo>
                  <a:pt x="8325" y="14315"/>
                  <a:pt x="8422" y="14235"/>
                  <a:pt x="8508" y="14387"/>
                </a:cubicBezTo>
                <a:cubicBezTo>
                  <a:pt x="8602" y="14553"/>
                  <a:pt x="8409" y="14604"/>
                  <a:pt x="8285" y="14585"/>
                </a:cubicBezTo>
                <a:cubicBezTo>
                  <a:pt x="8268" y="14577"/>
                  <a:pt x="8252" y="14568"/>
                  <a:pt x="82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7840" y="516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995" y="14337"/>
                </a:moveTo>
                <a:lnTo>
                  <a:pt x="6995" y="1433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decimal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8.1 x 4.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0.263 • 5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79.2 x 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3 • 0.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97160" y="1893960"/>
            <a:ext cx="1035000" cy="1544400"/>
          </a:xfrm>
          <a:custGeom>
            <a:avLst/>
            <a:gdLst/>
            <a:ahLst/>
            <a:rect l="l" t="t" r="r" b="b"/>
            <a:pathLst>
              <a:path w="2878" h="4292">
                <a:moveTo>
                  <a:pt x="10120" y="5482"/>
                </a:moveTo>
                <a:cubicBezTo>
                  <a:pt x="10150" y="5336"/>
                  <a:pt x="9849" y="5348"/>
                  <a:pt x="9748" y="5383"/>
                </a:cubicBezTo>
                <a:cubicBezTo>
                  <a:pt x="9618" y="5469"/>
                  <a:pt x="9578" y="5482"/>
                  <a:pt x="9550" y="5581"/>
                </a:cubicBezTo>
                <a:cubicBezTo>
                  <a:pt x="9678" y="5784"/>
                  <a:pt x="9925" y="5854"/>
                  <a:pt x="9996" y="6102"/>
                </a:cubicBezTo>
                <a:cubicBezTo>
                  <a:pt x="10056" y="6314"/>
                  <a:pt x="9891" y="6325"/>
                  <a:pt x="9748" y="6375"/>
                </a:cubicBezTo>
                <a:cubicBezTo>
                  <a:pt x="9668" y="6115"/>
                  <a:pt x="9817" y="5981"/>
                  <a:pt x="9897" y="5730"/>
                </a:cubicBezTo>
                <a:cubicBezTo>
                  <a:pt x="9897" y="5705"/>
                  <a:pt x="9897" y="5680"/>
                  <a:pt x="9897" y="5655"/>
                </a:cubicBezTo>
              </a:path>
              <a:path w="2878" h="4292">
                <a:moveTo>
                  <a:pt x="10517" y="5259"/>
                </a:moveTo>
                <a:cubicBezTo>
                  <a:pt x="10527" y="5535"/>
                  <a:pt x="10514" y="5830"/>
                  <a:pt x="10567" y="6102"/>
                </a:cubicBezTo>
                <a:cubicBezTo>
                  <a:pt x="10575" y="6119"/>
                  <a:pt x="10584" y="6135"/>
                  <a:pt x="10592" y="6152"/>
                </a:cubicBezTo>
              </a:path>
              <a:path w="2878" h="4292">
                <a:moveTo>
                  <a:pt x="8954" y="7069"/>
                </a:moveTo>
                <a:cubicBezTo>
                  <a:pt x="9106" y="7199"/>
                  <a:pt x="9141" y="7377"/>
                  <a:pt x="9203" y="7565"/>
                </a:cubicBezTo>
                <a:cubicBezTo>
                  <a:pt x="9211" y="7582"/>
                  <a:pt x="9219" y="7598"/>
                  <a:pt x="9227" y="7615"/>
                </a:cubicBezTo>
              </a:path>
              <a:path w="2878" h="4292">
                <a:moveTo>
                  <a:pt x="9203" y="6945"/>
                </a:moveTo>
                <a:cubicBezTo>
                  <a:pt x="9121" y="7192"/>
                  <a:pt x="9045" y="7433"/>
                  <a:pt x="8930" y="7665"/>
                </a:cubicBezTo>
              </a:path>
              <a:path w="2878" h="4292">
                <a:moveTo>
                  <a:pt x="9773" y="7020"/>
                </a:moveTo>
                <a:cubicBezTo>
                  <a:pt x="9752" y="7087"/>
                  <a:pt x="9733" y="7149"/>
                  <a:pt x="9723" y="7218"/>
                </a:cubicBezTo>
                <a:cubicBezTo>
                  <a:pt x="9860" y="7211"/>
                  <a:pt x="9985" y="7194"/>
                  <a:pt x="10120" y="7169"/>
                </a:cubicBezTo>
              </a:path>
              <a:path w="2878" h="4292">
                <a:moveTo>
                  <a:pt x="9971" y="6821"/>
                </a:moveTo>
                <a:cubicBezTo>
                  <a:pt x="9964" y="7075"/>
                  <a:pt x="9921" y="7315"/>
                  <a:pt x="9897" y="7565"/>
                </a:cubicBezTo>
              </a:path>
              <a:path w="2878" h="4292">
                <a:moveTo>
                  <a:pt x="10368" y="6921"/>
                </a:moveTo>
                <a:cubicBezTo>
                  <a:pt x="10467" y="6921"/>
                  <a:pt x="10546" y="6924"/>
                  <a:pt x="10641" y="6945"/>
                </a:cubicBezTo>
                <a:cubicBezTo>
                  <a:pt x="10655" y="7177"/>
                  <a:pt x="10519" y="7270"/>
                  <a:pt x="10393" y="7466"/>
                </a:cubicBezTo>
                <a:cubicBezTo>
                  <a:pt x="10385" y="7483"/>
                  <a:pt x="10376" y="7499"/>
                  <a:pt x="10368" y="7516"/>
                </a:cubicBezTo>
                <a:cubicBezTo>
                  <a:pt x="10547" y="7506"/>
                  <a:pt x="10713" y="7460"/>
                  <a:pt x="10889" y="7441"/>
                </a:cubicBezTo>
              </a:path>
              <a:path w="2878" h="4292">
                <a:moveTo>
                  <a:pt x="8880" y="8186"/>
                </a:moveTo>
                <a:cubicBezTo>
                  <a:pt x="9476" y="8073"/>
                  <a:pt x="10058" y="7939"/>
                  <a:pt x="10666" y="7888"/>
                </a:cubicBezTo>
                <a:cubicBezTo>
                  <a:pt x="11050" y="7856"/>
                  <a:pt x="11382" y="7867"/>
                  <a:pt x="11757" y="7913"/>
                </a:cubicBezTo>
              </a:path>
              <a:path w="2878" h="4292">
                <a:moveTo>
                  <a:pt x="10244" y="6226"/>
                </a:moveTo>
                <a:cubicBezTo>
                  <a:pt x="10153" y="6226"/>
                  <a:pt x="10223" y="6322"/>
                  <a:pt x="10244" y="6251"/>
                </a:cubicBezTo>
                <a:cubicBezTo>
                  <a:pt x="10293" y="6086"/>
                  <a:pt x="10158" y="6404"/>
                  <a:pt x="10220" y="6226"/>
                </a:cubicBezTo>
              </a:path>
              <a:path w="2878" h="4292">
                <a:moveTo>
                  <a:pt x="10120" y="7541"/>
                </a:moveTo>
                <a:cubicBezTo>
                  <a:pt x="10165" y="7485"/>
                  <a:pt x="10166" y="7422"/>
                  <a:pt x="10120" y="7491"/>
                </a:cubicBezTo>
                <a:cubicBezTo>
                  <a:pt x="10220" y="7463"/>
                  <a:pt x="10176" y="7398"/>
                  <a:pt x="10145" y="7491"/>
                </a:cubicBezTo>
              </a:path>
              <a:path w="2878" h="4292">
                <a:moveTo>
                  <a:pt x="10691" y="8359"/>
                </a:moveTo>
                <a:cubicBezTo>
                  <a:pt x="10775" y="8234"/>
                  <a:pt x="10821" y="8200"/>
                  <a:pt x="10964" y="8210"/>
                </a:cubicBezTo>
                <a:cubicBezTo>
                  <a:pt x="10975" y="8405"/>
                  <a:pt x="10895" y="8534"/>
                  <a:pt x="10790" y="8706"/>
                </a:cubicBezTo>
                <a:cubicBezTo>
                  <a:pt x="10773" y="8731"/>
                  <a:pt x="10757" y="8756"/>
                  <a:pt x="10740" y="8781"/>
                </a:cubicBezTo>
                <a:cubicBezTo>
                  <a:pt x="10904" y="8699"/>
                  <a:pt x="11063" y="8587"/>
                  <a:pt x="11237" y="8508"/>
                </a:cubicBezTo>
              </a:path>
              <a:path w="2878" h="4292">
                <a:moveTo>
                  <a:pt x="9525" y="8458"/>
                </a:moveTo>
                <a:cubicBezTo>
                  <a:pt x="9540" y="8672"/>
                  <a:pt x="9566" y="8866"/>
                  <a:pt x="9550" y="9079"/>
                </a:cubicBezTo>
              </a:path>
              <a:path w="2878" h="4292">
                <a:moveTo>
                  <a:pt x="9798" y="8458"/>
                </a:moveTo>
                <a:cubicBezTo>
                  <a:pt x="9813" y="8586"/>
                  <a:pt x="9781" y="8929"/>
                  <a:pt x="9922" y="9004"/>
                </a:cubicBezTo>
                <a:cubicBezTo>
                  <a:pt x="10075" y="9086"/>
                  <a:pt x="10321" y="8857"/>
                  <a:pt x="10368" y="8731"/>
                </a:cubicBezTo>
                <a:cubicBezTo>
                  <a:pt x="10368" y="8628"/>
                  <a:pt x="10364" y="8593"/>
                  <a:pt x="10269" y="8582"/>
                </a:cubicBezTo>
                <a:cubicBezTo>
                  <a:pt x="10187" y="8697"/>
                  <a:pt x="10176" y="8771"/>
                  <a:pt x="10195" y="8905"/>
                </a:cubicBezTo>
              </a:path>
              <a:path w="2878" h="4292">
                <a:moveTo>
                  <a:pt x="11013" y="9103"/>
                </a:moveTo>
                <a:cubicBezTo>
                  <a:pt x="10919" y="9103"/>
                  <a:pt x="10857" y="9097"/>
                  <a:pt x="10815" y="9203"/>
                </a:cubicBezTo>
                <a:cubicBezTo>
                  <a:pt x="10792" y="9262"/>
                  <a:pt x="10782" y="9325"/>
                  <a:pt x="10815" y="9376"/>
                </a:cubicBezTo>
                <a:cubicBezTo>
                  <a:pt x="10850" y="9431"/>
                  <a:pt x="10913" y="9536"/>
                  <a:pt x="10988" y="9550"/>
                </a:cubicBezTo>
                <a:cubicBezTo>
                  <a:pt x="11074" y="9566"/>
                  <a:pt x="11151" y="9503"/>
                  <a:pt x="11212" y="9451"/>
                </a:cubicBezTo>
                <a:cubicBezTo>
                  <a:pt x="11248" y="9420"/>
                  <a:pt x="11299" y="9328"/>
                  <a:pt x="11311" y="9277"/>
                </a:cubicBezTo>
                <a:cubicBezTo>
                  <a:pt x="11324" y="9221"/>
                  <a:pt x="11254" y="9158"/>
                  <a:pt x="11212" y="9128"/>
                </a:cubicBezTo>
                <a:cubicBezTo>
                  <a:pt x="11154" y="9087"/>
                  <a:pt x="11080" y="9103"/>
                  <a:pt x="11013" y="9103"/>
                </a:cubicBezTo>
                <a:cubicBezTo>
                  <a:pt x="10936" y="9103"/>
                  <a:pt x="10921" y="9128"/>
                  <a:pt x="10864" y="9178"/>
                </a:cubicBezTo>
              </a:path>
              <a:path w="2878" h="4292">
                <a:moveTo>
                  <a:pt x="9327" y="7863"/>
                </a:moveTo>
                <a:cubicBezTo>
                  <a:pt x="9348" y="7987"/>
                  <a:pt x="9357" y="8120"/>
                  <a:pt x="9401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3840" y="3633840"/>
            <a:ext cx="635040" cy="482400"/>
          </a:xfrm>
          <a:custGeom>
            <a:avLst/>
            <a:gdLst/>
            <a:ahLst/>
            <a:rect l="l" t="t" r="r" b="b"/>
            <a:pathLst>
              <a:path w="1762" h="1340">
                <a:moveTo>
                  <a:pt x="11187" y="10220"/>
                </a:moveTo>
                <a:cubicBezTo>
                  <a:pt x="11218" y="10104"/>
                  <a:pt x="11212" y="10116"/>
                  <a:pt x="11336" y="10096"/>
                </a:cubicBezTo>
                <a:cubicBezTo>
                  <a:pt x="11416" y="10254"/>
                  <a:pt x="11354" y="10348"/>
                  <a:pt x="11261" y="10492"/>
                </a:cubicBezTo>
                <a:cubicBezTo>
                  <a:pt x="11194" y="10583"/>
                  <a:pt x="11176" y="10606"/>
                  <a:pt x="11137" y="10666"/>
                </a:cubicBezTo>
                <a:cubicBezTo>
                  <a:pt x="11271" y="10586"/>
                  <a:pt x="11344" y="10482"/>
                  <a:pt x="11509" y="10492"/>
                </a:cubicBezTo>
                <a:cubicBezTo>
                  <a:pt x="11570" y="10512"/>
                  <a:pt x="11585" y="10510"/>
                  <a:pt x="11609" y="10542"/>
                </a:cubicBezTo>
              </a:path>
              <a:path w="1762" h="1340">
                <a:moveTo>
                  <a:pt x="10542" y="10344"/>
                </a:moveTo>
                <a:cubicBezTo>
                  <a:pt x="10415" y="10438"/>
                  <a:pt x="10368" y="10603"/>
                  <a:pt x="10368" y="10765"/>
                </a:cubicBezTo>
                <a:cubicBezTo>
                  <a:pt x="10390" y="10894"/>
                  <a:pt x="10386" y="10926"/>
                  <a:pt x="10443" y="10988"/>
                </a:cubicBezTo>
                <a:cubicBezTo>
                  <a:pt x="10630" y="10912"/>
                  <a:pt x="10769" y="10825"/>
                  <a:pt x="10691" y="10592"/>
                </a:cubicBezTo>
                <a:cubicBezTo>
                  <a:pt x="10669" y="10526"/>
                  <a:pt x="10546" y="10531"/>
                  <a:pt x="10492" y="10517"/>
                </a:cubicBezTo>
              </a:path>
              <a:path w="1762" h="1340">
                <a:moveTo>
                  <a:pt x="11857" y="10666"/>
                </a:moveTo>
                <a:cubicBezTo>
                  <a:pt x="11815" y="10801"/>
                  <a:pt x="11783" y="10902"/>
                  <a:pt x="11658" y="10988"/>
                </a:cubicBezTo>
                <a:cubicBezTo>
                  <a:pt x="11548" y="11064"/>
                  <a:pt x="11368" y="11088"/>
                  <a:pt x="11237" y="11063"/>
                </a:cubicBezTo>
                <a:cubicBezTo>
                  <a:pt x="11183" y="11036"/>
                  <a:pt x="11162" y="11024"/>
                  <a:pt x="11137" y="10988"/>
                </a:cubicBezTo>
                <a:cubicBezTo>
                  <a:pt x="11137" y="11130"/>
                  <a:pt x="11154" y="11197"/>
                  <a:pt x="11038" y="11286"/>
                </a:cubicBezTo>
                <a:cubicBezTo>
                  <a:pt x="10899" y="11392"/>
                  <a:pt x="10672" y="11488"/>
                  <a:pt x="10492" y="11435"/>
                </a:cubicBezTo>
                <a:cubicBezTo>
                  <a:pt x="10419" y="11413"/>
                  <a:pt x="10346" y="11313"/>
                  <a:pt x="10294" y="11261"/>
                </a:cubicBezTo>
              </a:path>
              <a:path w="1762" h="1340">
                <a:moveTo>
                  <a:pt x="10145" y="11088"/>
                </a:moveTo>
                <a:cubicBezTo>
                  <a:pt x="10168" y="11189"/>
                  <a:pt x="10180" y="11188"/>
                  <a:pt x="10269" y="11237"/>
                </a:cubicBezTo>
                <a:cubicBezTo>
                  <a:pt x="10353" y="11115"/>
                  <a:pt x="10387" y="10987"/>
                  <a:pt x="10170" y="11013"/>
                </a:cubicBezTo>
                <a:cubicBezTo>
                  <a:pt x="10085" y="11023"/>
                  <a:pt x="10120" y="11129"/>
                  <a:pt x="10120" y="11187"/>
                </a:cubicBezTo>
                <a:cubicBezTo>
                  <a:pt x="10197" y="11187"/>
                  <a:pt x="10233" y="11087"/>
                  <a:pt x="10120" y="11088"/>
                </a:cubicBezTo>
                <a:cubicBezTo>
                  <a:pt x="10099" y="11153"/>
                  <a:pt x="10089" y="11309"/>
                  <a:pt x="10170" y="11187"/>
                </a:cubicBezTo>
                <a:cubicBezTo>
                  <a:pt x="10212" y="11124"/>
                  <a:pt x="10124" y="11058"/>
                  <a:pt x="10096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27240" y="3313080"/>
            <a:ext cx="1179720" cy="401760"/>
          </a:xfrm>
          <a:custGeom>
            <a:avLst/>
            <a:gdLst/>
            <a:ahLst/>
            <a:rect l="l" t="t" r="r" b="b"/>
            <a:pathLst>
              <a:path w="3275" h="1117">
                <a:moveTo>
                  <a:pt x="10046" y="9327"/>
                </a:moveTo>
                <a:cubicBezTo>
                  <a:pt x="10054" y="9335"/>
                  <a:pt x="10071" y="9479"/>
                  <a:pt x="10071" y="9575"/>
                </a:cubicBezTo>
                <a:cubicBezTo>
                  <a:pt x="10173" y="9530"/>
                  <a:pt x="10260" y="9502"/>
                  <a:pt x="10368" y="9475"/>
                </a:cubicBezTo>
              </a:path>
              <a:path w="3275" h="1117">
                <a:moveTo>
                  <a:pt x="10269" y="9203"/>
                </a:moveTo>
                <a:cubicBezTo>
                  <a:pt x="10276" y="9394"/>
                  <a:pt x="10294" y="9582"/>
                  <a:pt x="10294" y="9773"/>
                </a:cubicBezTo>
              </a:path>
              <a:path w="3275" h="1117">
                <a:moveTo>
                  <a:pt x="8930" y="9401"/>
                </a:moveTo>
                <a:cubicBezTo>
                  <a:pt x="9009" y="9342"/>
                  <a:pt x="9018" y="9317"/>
                  <a:pt x="9079" y="9327"/>
                </a:cubicBezTo>
                <a:cubicBezTo>
                  <a:pt x="9094" y="9462"/>
                  <a:pt x="9090" y="9503"/>
                  <a:pt x="9029" y="9624"/>
                </a:cubicBezTo>
                <a:cubicBezTo>
                  <a:pt x="9149" y="9605"/>
                  <a:pt x="9327" y="9650"/>
                  <a:pt x="9203" y="9823"/>
                </a:cubicBezTo>
                <a:cubicBezTo>
                  <a:pt x="9124" y="9934"/>
                  <a:pt x="9032" y="9900"/>
                  <a:pt x="8930" y="9872"/>
                </a:cubicBezTo>
              </a:path>
              <a:path w="3275" h="1117">
                <a:moveTo>
                  <a:pt x="9376" y="9376"/>
                </a:moveTo>
                <a:cubicBezTo>
                  <a:pt x="9437" y="9352"/>
                  <a:pt x="9639" y="9251"/>
                  <a:pt x="9624" y="9401"/>
                </a:cubicBezTo>
                <a:cubicBezTo>
                  <a:pt x="9573" y="9557"/>
                  <a:pt x="9552" y="9613"/>
                  <a:pt x="9475" y="9699"/>
                </a:cubicBezTo>
                <a:cubicBezTo>
                  <a:pt x="9467" y="9707"/>
                  <a:pt x="9459" y="9715"/>
                  <a:pt x="9451" y="9723"/>
                </a:cubicBezTo>
                <a:cubicBezTo>
                  <a:pt x="9553" y="9697"/>
                  <a:pt x="9647" y="9644"/>
                  <a:pt x="9748" y="9624"/>
                </a:cubicBezTo>
              </a:path>
              <a:path w="3275" h="1117">
                <a:moveTo>
                  <a:pt x="8508" y="9277"/>
                </a:moveTo>
                <a:cubicBezTo>
                  <a:pt x="8557" y="9399"/>
                  <a:pt x="8573" y="9438"/>
                  <a:pt x="8582" y="9525"/>
                </a:cubicBezTo>
              </a:path>
              <a:path w="3275" h="1117">
                <a:moveTo>
                  <a:pt x="8409" y="9525"/>
                </a:moveTo>
                <a:cubicBezTo>
                  <a:pt x="8518" y="9503"/>
                  <a:pt x="8621" y="9483"/>
                  <a:pt x="8731" y="9475"/>
                </a:cubicBezTo>
              </a:path>
              <a:path w="3275" h="1117">
                <a:moveTo>
                  <a:pt x="8657" y="10319"/>
                </a:moveTo>
                <a:cubicBezTo>
                  <a:pt x="8937" y="10273"/>
                  <a:pt x="9217" y="10206"/>
                  <a:pt x="9500" y="10170"/>
                </a:cubicBezTo>
                <a:cubicBezTo>
                  <a:pt x="9880" y="10121"/>
                  <a:pt x="10240" y="10040"/>
                  <a:pt x="10616" y="9971"/>
                </a:cubicBezTo>
                <a:cubicBezTo>
                  <a:pt x="10898" y="9920"/>
                  <a:pt x="11178" y="9871"/>
                  <a:pt x="11460" y="9823"/>
                </a:cubicBezTo>
                <a:cubicBezTo>
                  <a:pt x="11534" y="9810"/>
                  <a:pt x="11611" y="9790"/>
                  <a:pt x="11683" y="9773"/>
                </a:cubicBezTo>
              </a:path>
              <a:path w="3275" h="1117">
                <a:moveTo>
                  <a:pt x="8533" y="9451"/>
                </a:moveTo>
                <a:cubicBezTo>
                  <a:pt x="8441" y="9480"/>
                  <a:pt x="8553" y="9636"/>
                  <a:pt x="8582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87800" y="3751200"/>
            <a:ext cx="366480" cy="35712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9649" y="10468"/>
                </a:moveTo>
                <a:cubicBezTo>
                  <a:pt x="9649" y="10596"/>
                  <a:pt x="9640" y="10714"/>
                  <a:pt x="9624" y="10840"/>
                </a:cubicBezTo>
                <a:cubicBezTo>
                  <a:pt x="9713" y="10812"/>
                  <a:pt x="9788" y="10782"/>
                  <a:pt x="9872" y="10740"/>
                </a:cubicBezTo>
              </a:path>
              <a:path w="1018" h="993">
                <a:moveTo>
                  <a:pt x="9798" y="10418"/>
                </a:moveTo>
                <a:cubicBezTo>
                  <a:pt x="9798" y="10658"/>
                  <a:pt x="9798" y="10897"/>
                  <a:pt x="9798" y="11137"/>
                </a:cubicBezTo>
              </a:path>
              <a:path w="1018" h="993">
                <a:moveTo>
                  <a:pt x="8855" y="10740"/>
                </a:moveTo>
                <a:cubicBezTo>
                  <a:pt x="8939" y="10685"/>
                  <a:pt x="9084" y="10550"/>
                  <a:pt x="9153" y="10716"/>
                </a:cubicBezTo>
                <a:cubicBezTo>
                  <a:pt x="9205" y="10841"/>
                  <a:pt x="9129" y="10939"/>
                  <a:pt x="9029" y="10988"/>
                </a:cubicBezTo>
                <a:cubicBezTo>
                  <a:pt x="9230" y="10979"/>
                  <a:pt x="9370" y="11040"/>
                  <a:pt x="9227" y="11286"/>
                </a:cubicBezTo>
                <a:cubicBezTo>
                  <a:pt x="9158" y="11404"/>
                  <a:pt x="9054" y="11438"/>
                  <a:pt x="8954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36960" y="4616280"/>
            <a:ext cx="1303200" cy="1322640"/>
          </a:xfrm>
          <a:custGeom>
            <a:avLst/>
            <a:gdLst/>
            <a:ahLst/>
            <a:rect l="l" t="t" r="r" b="b"/>
            <a:pathLst>
              <a:path w="3622" h="3672">
                <a:moveTo>
                  <a:pt x="9128" y="13791"/>
                </a:moveTo>
                <a:cubicBezTo>
                  <a:pt x="9168" y="13713"/>
                  <a:pt x="9145" y="13648"/>
                  <a:pt x="9227" y="13618"/>
                </a:cubicBezTo>
                <a:cubicBezTo>
                  <a:pt x="9327" y="13593"/>
                  <a:pt x="9360" y="13585"/>
                  <a:pt x="9426" y="13568"/>
                </a:cubicBezTo>
                <a:cubicBezTo>
                  <a:pt x="9449" y="13847"/>
                  <a:pt x="9380" y="14067"/>
                  <a:pt x="9302" y="14337"/>
                </a:cubicBezTo>
              </a:path>
              <a:path w="3622" h="3672">
                <a:moveTo>
                  <a:pt x="9823" y="13841"/>
                </a:moveTo>
                <a:cubicBezTo>
                  <a:pt x="9900" y="13819"/>
                  <a:pt x="9949" y="13703"/>
                  <a:pt x="9872" y="13618"/>
                </a:cubicBezTo>
                <a:cubicBezTo>
                  <a:pt x="9847" y="13610"/>
                  <a:pt x="9823" y="13601"/>
                  <a:pt x="9798" y="13593"/>
                </a:cubicBezTo>
                <a:cubicBezTo>
                  <a:pt x="9755" y="13636"/>
                  <a:pt x="9544" y="13889"/>
                  <a:pt x="9723" y="13915"/>
                </a:cubicBezTo>
                <a:cubicBezTo>
                  <a:pt x="9818" y="13929"/>
                  <a:pt x="9878" y="13800"/>
                  <a:pt x="9922" y="13742"/>
                </a:cubicBezTo>
                <a:cubicBezTo>
                  <a:pt x="9879" y="13965"/>
                  <a:pt x="9844" y="14189"/>
                  <a:pt x="9798" y="14412"/>
                </a:cubicBezTo>
              </a:path>
              <a:path w="3622" h="3672">
                <a:moveTo>
                  <a:pt x="10046" y="14163"/>
                </a:moveTo>
                <a:lnTo>
                  <a:pt x="10046" y="14163"/>
                </a:lnTo>
              </a:path>
              <a:path w="3622" h="3672">
                <a:moveTo>
                  <a:pt x="10492" y="13667"/>
                </a:moveTo>
                <a:cubicBezTo>
                  <a:pt x="10570" y="13616"/>
                  <a:pt x="10600" y="13598"/>
                  <a:pt x="10666" y="13593"/>
                </a:cubicBezTo>
                <a:cubicBezTo>
                  <a:pt x="10746" y="13823"/>
                  <a:pt x="10756" y="14101"/>
                  <a:pt x="10443" y="14188"/>
                </a:cubicBezTo>
                <a:cubicBezTo>
                  <a:pt x="10410" y="14180"/>
                  <a:pt x="10377" y="14171"/>
                  <a:pt x="10344" y="14163"/>
                </a:cubicBezTo>
                <a:cubicBezTo>
                  <a:pt x="10453" y="14009"/>
                  <a:pt x="10576" y="13934"/>
                  <a:pt x="10666" y="14163"/>
                </a:cubicBezTo>
                <a:cubicBezTo>
                  <a:pt x="10674" y="14205"/>
                  <a:pt x="10683" y="14246"/>
                  <a:pt x="10691" y="14288"/>
                </a:cubicBezTo>
              </a:path>
              <a:path w="3622" h="3672">
                <a:moveTo>
                  <a:pt x="8607" y="14784"/>
                </a:moveTo>
                <a:cubicBezTo>
                  <a:pt x="8660" y="14960"/>
                  <a:pt x="8716" y="15132"/>
                  <a:pt x="8781" y="15304"/>
                </a:cubicBezTo>
              </a:path>
              <a:path w="3622" h="3672">
                <a:moveTo>
                  <a:pt x="8781" y="14808"/>
                </a:moveTo>
                <a:cubicBezTo>
                  <a:pt x="8737" y="14980"/>
                  <a:pt x="8691" y="15137"/>
                  <a:pt x="8632" y="15304"/>
                </a:cubicBezTo>
              </a:path>
              <a:path w="3622" h="3672">
                <a:moveTo>
                  <a:pt x="10443" y="14660"/>
                </a:moveTo>
                <a:cubicBezTo>
                  <a:pt x="10392" y="14812"/>
                  <a:pt x="10361" y="14971"/>
                  <a:pt x="10344" y="15131"/>
                </a:cubicBezTo>
                <a:cubicBezTo>
                  <a:pt x="10571" y="15141"/>
                  <a:pt x="10691" y="15150"/>
                  <a:pt x="10691" y="14908"/>
                </a:cubicBezTo>
                <a:cubicBezTo>
                  <a:pt x="10541" y="14958"/>
                  <a:pt x="10535" y="15054"/>
                  <a:pt x="10517" y="15205"/>
                </a:cubicBezTo>
              </a:path>
              <a:path w="3622" h="3672">
                <a:moveTo>
                  <a:pt x="8830" y="15701"/>
                </a:moveTo>
                <a:cubicBezTo>
                  <a:pt x="9315" y="15557"/>
                  <a:pt x="9790" y="15483"/>
                  <a:pt x="10294" y="15429"/>
                </a:cubicBezTo>
                <a:cubicBezTo>
                  <a:pt x="10509" y="15409"/>
                  <a:pt x="10541" y="15401"/>
                  <a:pt x="10666" y="15404"/>
                </a:cubicBezTo>
              </a:path>
              <a:path w="3622" h="3672">
                <a:moveTo>
                  <a:pt x="10418" y="15677"/>
                </a:moveTo>
                <a:cubicBezTo>
                  <a:pt x="10530" y="15677"/>
                  <a:pt x="10562" y="15671"/>
                  <a:pt x="10616" y="15726"/>
                </a:cubicBezTo>
                <a:cubicBezTo>
                  <a:pt x="10526" y="15919"/>
                  <a:pt x="10409" y="15993"/>
                  <a:pt x="10220" y="16098"/>
                </a:cubicBezTo>
                <a:cubicBezTo>
                  <a:pt x="10398" y="16075"/>
                  <a:pt x="10535" y="16014"/>
                  <a:pt x="10716" y="16049"/>
                </a:cubicBezTo>
                <a:cubicBezTo>
                  <a:pt x="10724" y="16057"/>
                  <a:pt x="10732" y="16065"/>
                  <a:pt x="10740" y="16073"/>
                </a:cubicBezTo>
              </a:path>
              <a:path w="3622" h="3672">
                <a:moveTo>
                  <a:pt x="9748" y="12923"/>
                </a:moveTo>
                <a:cubicBezTo>
                  <a:pt x="9738" y="13057"/>
                  <a:pt x="9723" y="13184"/>
                  <a:pt x="9723" y="13320"/>
                </a:cubicBezTo>
              </a:path>
              <a:path w="3622" h="3672">
                <a:moveTo>
                  <a:pt x="9723" y="15726"/>
                </a:moveTo>
                <a:cubicBezTo>
                  <a:pt x="9617" y="15739"/>
                  <a:pt x="9614" y="15758"/>
                  <a:pt x="9599" y="15875"/>
                </a:cubicBezTo>
                <a:cubicBezTo>
                  <a:pt x="9599" y="15892"/>
                  <a:pt x="9599" y="15908"/>
                  <a:pt x="9599" y="15925"/>
                </a:cubicBezTo>
                <a:cubicBezTo>
                  <a:pt x="9666" y="15915"/>
                  <a:pt x="9799" y="15847"/>
                  <a:pt x="9823" y="15949"/>
                </a:cubicBezTo>
                <a:cubicBezTo>
                  <a:pt x="9855" y="16086"/>
                  <a:pt x="9759" y="16161"/>
                  <a:pt x="9624" y="16123"/>
                </a:cubicBezTo>
                <a:cubicBezTo>
                  <a:pt x="9546" y="16070"/>
                  <a:pt x="9517" y="16050"/>
                  <a:pt x="9475" y="15999"/>
                </a:cubicBezTo>
              </a:path>
              <a:path w="3622" h="3672">
                <a:moveTo>
                  <a:pt x="9079" y="12824"/>
                </a:moveTo>
                <a:cubicBezTo>
                  <a:pt x="8952" y="12872"/>
                  <a:pt x="8851" y="12851"/>
                  <a:pt x="8830" y="12998"/>
                </a:cubicBezTo>
                <a:cubicBezTo>
                  <a:pt x="8830" y="13006"/>
                  <a:pt x="8830" y="13014"/>
                  <a:pt x="8830" y="13022"/>
                </a:cubicBezTo>
                <a:cubicBezTo>
                  <a:pt x="8896" y="13022"/>
                  <a:pt x="9050" y="12999"/>
                  <a:pt x="9029" y="13122"/>
                </a:cubicBezTo>
                <a:cubicBezTo>
                  <a:pt x="9006" y="13258"/>
                  <a:pt x="8891" y="13271"/>
                  <a:pt x="8781" y="13271"/>
                </a:cubicBezTo>
              </a:path>
              <a:path w="3622" h="3672">
                <a:moveTo>
                  <a:pt x="8533" y="15974"/>
                </a:moveTo>
                <a:cubicBezTo>
                  <a:pt x="8489" y="16125"/>
                  <a:pt x="8483" y="16162"/>
                  <a:pt x="8434" y="16247"/>
                </a:cubicBezTo>
                <a:cubicBezTo>
                  <a:pt x="8556" y="16303"/>
                  <a:pt x="8589" y="16272"/>
                  <a:pt x="8731" y="16222"/>
                </a:cubicBezTo>
              </a:path>
              <a:path w="3622" h="3672">
                <a:moveTo>
                  <a:pt x="8731" y="15974"/>
                </a:moveTo>
                <a:cubicBezTo>
                  <a:pt x="8715" y="16141"/>
                  <a:pt x="8704" y="16305"/>
                  <a:pt x="8682" y="16470"/>
                </a:cubicBezTo>
              </a:path>
              <a:path w="3622" h="3672">
                <a:moveTo>
                  <a:pt x="8830" y="15974"/>
                </a:moveTo>
                <a:cubicBezTo>
                  <a:pt x="8925" y="15974"/>
                  <a:pt x="9023" y="15964"/>
                  <a:pt x="9103" y="15999"/>
                </a:cubicBezTo>
                <a:cubicBezTo>
                  <a:pt x="9089" y="16161"/>
                  <a:pt x="9034" y="16310"/>
                  <a:pt x="9004" y="16470"/>
                </a:cubicBezTo>
                <a:cubicBezTo>
                  <a:pt x="9004" y="16478"/>
                  <a:pt x="9004" y="16487"/>
                  <a:pt x="9004" y="16495"/>
                </a:cubicBezTo>
              </a:path>
              <a:path w="3622" h="3672">
                <a:moveTo>
                  <a:pt x="10195" y="14263"/>
                </a:moveTo>
                <a:cubicBezTo>
                  <a:pt x="10278" y="14464"/>
                  <a:pt x="10390" y="14605"/>
                  <a:pt x="10641" y="14560"/>
                </a:cubicBezTo>
                <a:cubicBezTo>
                  <a:pt x="10842" y="14524"/>
                  <a:pt x="10912" y="14436"/>
                  <a:pt x="11013" y="14288"/>
                </a:cubicBezTo>
              </a:path>
              <a:path w="3622" h="3672">
                <a:moveTo>
                  <a:pt x="11509" y="13519"/>
                </a:moveTo>
                <a:cubicBezTo>
                  <a:pt x="11525" y="13595"/>
                  <a:pt x="11535" y="13678"/>
                  <a:pt x="11559" y="13742"/>
                </a:cubicBezTo>
              </a:path>
              <a:path w="3622" h="3672">
                <a:moveTo>
                  <a:pt x="11633" y="14089"/>
                </a:moveTo>
                <a:cubicBezTo>
                  <a:pt x="11617" y="14122"/>
                  <a:pt x="11600" y="14155"/>
                  <a:pt x="11584" y="14188"/>
                </a:cubicBezTo>
                <a:cubicBezTo>
                  <a:pt x="11661" y="14227"/>
                  <a:pt x="11830" y="14194"/>
                  <a:pt x="11807" y="14064"/>
                </a:cubicBezTo>
                <a:cubicBezTo>
                  <a:pt x="11750" y="14036"/>
                  <a:pt x="11727" y="14025"/>
                  <a:pt x="11683" y="14015"/>
                </a:cubicBezTo>
              </a:path>
              <a:path w="3622" h="3672">
                <a:moveTo>
                  <a:pt x="11410" y="13990"/>
                </a:moveTo>
                <a:cubicBezTo>
                  <a:pt x="11418" y="14015"/>
                  <a:pt x="11427" y="14039"/>
                  <a:pt x="11435" y="14064"/>
                </a:cubicBezTo>
              </a:path>
              <a:path w="3622" h="3672">
                <a:moveTo>
                  <a:pt x="11385" y="14064"/>
                </a:moveTo>
                <a:lnTo>
                  <a:pt x="11385" y="14064"/>
                </a:lnTo>
              </a:path>
              <a:path w="3622" h="3672">
                <a:moveTo>
                  <a:pt x="11460" y="14436"/>
                </a:moveTo>
                <a:cubicBezTo>
                  <a:pt x="11642" y="14416"/>
                  <a:pt x="11820" y="14360"/>
                  <a:pt x="12005" y="14337"/>
                </a:cubicBezTo>
                <a:cubicBezTo>
                  <a:pt x="12022" y="14337"/>
                  <a:pt x="12038" y="14337"/>
                  <a:pt x="12055" y="14337"/>
                </a:cubicBezTo>
              </a:path>
              <a:path w="3622" h="3672">
                <a:moveTo>
                  <a:pt x="11807" y="14660"/>
                </a:moveTo>
                <a:cubicBezTo>
                  <a:pt x="11807" y="14743"/>
                  <a:pt x="11809" y="14806"/>
                  <a:pt x="11832" y="14883"/>
                </a:cubicBezTo>
              </a:path>
              <a:path w="3622" h="3672">
                <a:moveTo>
                  <a:pt x="9996" y="16247"/>
                </a:moveTo>
                <a:cubicBezTo>
                  <a:pt x="9918" y="16327"/>
                  <a:pt x="9999" y="16271"/>
                  <a:pt x="10046" y="16247"/>
                </a:cubicBezTo>
                <a:cubicBezTo>
                  <a:pt x="9936" y="16215"/>
                  <a:pt x="9957" y="16321"/>
                  <a:pt x="9996" y="16297"/>
                </a:cubicBezTo>
                <a:cubicBezTo>
                  <a:pt x="9996" y="16289"/>
                  <a:pt x="9996" y="16280"/>
                  <a:pt x="9996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9920" y="1919160"/>
            <a:ext cx="669960" cy="876600"/>
          </a:xfrm>
          <a:custGeom>
            <a:avLst/>
            <a:gdLst/>
            <a:ahLst/>
            <a:rect l="l" t="t" r="r" b="b"/>
            <a:pathLst>
              <a:path w="1861" h="2432">
                <a:moveTo>
                  <a:pt x="10220" y="6375"/>
                </a:moveTo>
                <a:cubicBezTo>
                  <a:pt x="10296" y="6452"/>
                  <a:pt x="10372" y="6548"/>
                  <a:pt x="10492" y="6548"/>
                </a:cubicBezTo>
                <a:cubicBezTo>
                  <a:pt x="10638" y="6548"/>
                  <a:pt x="10796" y="6419"/>
                  <a:pt x="10864" y="6300"/>
                </a:cubicBezTo>
                <a:cubicBezTo>
                  <a:pt x="10907" y="6193"/>
                  <a:pt x="10918" y="6169"/>
                  <a:pt x="10939" y="6102"/>
                </a:cubicBezTo>
              </a:path>
              <a:path w="1861" h="2432">
                <a:moveTo>
                  <a:pt x="11584" y="5333"/>
                </a:moveTo>
                <a:cubicBezTo>
                  <a:pt x="11618" y="5426"/>
                  <a:pt x="11645" y="5514"/>
                  <a:pt x="11683" y="5606"/>
                </a:cubicBezTo>
              </a:path>
              <a:path w="1861" h="2432">
                <a:moveTo>
                  <a:pt x="10244" y="7689"/>
                </a:moveTo>
                <a:cubicBezTo>
                  <a:pt x="10236" y="7673"/>
                  <a:pt x="10228" y="7656"/>
                  <a:pt x="10220" y="7640"/>
                </a:cubicBezTo>
                <a:cubicBezTo>
                  <a:pt x="10374" y="7671"/>
                  <a:pt x="10522" y="7777"/>
                  <a:pt x="10691" y="7764"/>
                </a:cubicBezTo>
                <a:cubicBezTo>
                  <a:pt x="10929" y="7746"/>
                  <a:pt x="11132" y="7585"/>
                  <a:pt x="11212" y="7367"/>
                </a:cubicBezTo>
                <a:cubicBezTo>
                  <a:pt x="11212" y="7350"/>
                  <a:pt x="11212" y="7334"/>
                  <a:pt x="11212" y="7317"/>
                </a:cubicBezTo>
              </a:path>
              <a:path w="1861" h="2432">
                <a:moveTo>
                  <a:pt x="11683" y="6028"/>
                </a:moveTo>
                <a:cubicBezTo>
                  <a:pt x="11725" y="6111"/>
                  <a:pt x="11766" y="6193"/>
                  <a:pt x="11807" y="6276"/>
                </a:cubicBezTo>
              </a:path>
              <a:path w="1861" h="2432">
                <a:moveTo>
                  <a:pt x="11410" y="6052"/>
                </a:moveTo>
                <a:cubicBezTo>
                  <a:pt x="11437" y="6114"/>
                  <a:pt x="11478" y="6183"/>
                  <a:pt x="11509" y="6251"/>
                </a:cubicBezTo>
              </a:path>
              <a:path w="1861" h="2432">
                <a:moveTo>
                  <a:pt x="11410" y="6201"/>
                </a:moveTo>
                <a:cubicBezTo>
                  <a:pt x="11456" y="6201"/>
                  <a:pt x="11482" y="6189"/>
                  <a:pt x="11509" y="6152"/>
                </a:cubicBezTo>
              </a:path>
              <a:path w="1861" h="2432">
                <a:moveTo>
                  <a:pt x="11534" y="6573"/>
                </a:moveTo>
                <a:cubicBezTo>
                  <a:pt x="11694" y="6493"/>
                  <a:pt x="11849" y="6411"/>
                  <a:pt x="12005" y="6325"/>
                </a:cubicBezTo>
                <a:cubicBezTo>
                  <a:pt x="12022" y="6317"/>
                  <a:pt x="12038" y="6308"/>
                  <a:pt x="12055" y="6300"/>
                </a:cubicBezTo>
              </a:path>
              <a:path w="1861" h="2432">
                <a:moveTo>
                  <a:pt x="11832" y="6623"/>
                </a:moveTo>
                <a:cubicBezTo>
                  <a:pt x="11907" y="6585"/>
                  <a:pt x="11905" y="6579"/>
                  <a:pt x="11981" y="6598"/>
                </a:cubicBezTo>
                <a:cubicBezTo>
                  <a:pt x="11961" y="6688"/>
                  <a:pt x="11912" y="6767"/>
                  <a:pt x="11857" y="6846"/>
                </a:cubicBezTo>
                <a:cubicBezTo>
                  <a:pt x="11949" y="6809"/>
                  <a:pt x="11998" y="6777"/>
                  <a:pt x="12080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75680" y="2035080"/>
            <a:ext cx="1376280" cy="2278080"/>
          </a:xfrm>
          <a:custGeom>
            <a:avLst/>
            <a:gdLst/>
            <a:ahLst/>
            <a:rect l="l" t="t" r="r" b="b"/>
            <a:pathLst>
              <a:path w="3821" h="6327">
                <a:moveTo>
                  <a:pt x="21853" y="6697"/>
                </a:moveTo>
                <a:cubicBezTo>
                  <a:pt x="21749" y="6594"/>
                  <a:pt x="21623" y="7028"/>
                  <a:pt x="21605" y="7144"/>
                </a:cubicBezTo>
                <a:cubicBezTo>
                  <a:pt x="21605" y="7306"/>
                  <a:pt x="21597" y="7356"/>
                  <a:pt x="21704" y="7417"/>
                </a:cubicBezTo>
                <a:cubicBezTo>
                  <a:pt x="21931" y="7251"/>
                  <a:pt x="22063" y="7087"/>
                  <a:pt x="21903" y="6796"/>
                </a:cubicBezTo>
                <a:cubicBezTo>
                  <a:pt x="21841" y="6735"/>
                  <a:pt x="21835" y="6711"/>
                  <a:pt x="21779" y="6722"/>
                </a:cubicBezTo>
              </a:path>
              <a:path w="3821" h="6327">
                <a:moveTo>
                  <a:pt x="22175" y="7293"/>
                </a:moveTo>
                <a:lnTo>
                  <a:pt x="22175" y="7293"/>
                </a:lnTo>
              </a:path>
              <a:path w="3821" h="6327">
                <a:moveTo>
                  <a:pt x="22374" y="6747"/>
                </a:moveTo>
                <a:cubicBezTo>
                  <a:pt x="22597" y="6709"/>
                  <a:pt x="22762" y="6729"/>
                  <a:pt x="22746" y="7020"/>
                </a:cubicBezTo>
                <a:cubicBezTo>
                  <a:pt x="22735" y="7223"/>
                  <a:pt x="22598" y="7308"/>
                  <a:pt x="22448" y="7218"/>
                </a:cubicBezTo>
                <a:cubicBezTo>
                  <a:pt x="22486" y="7087"/>
                  <a:pt x="22569" y="7145"/>
                  <a:pt x="22647" y="7218"/>
                </a:cubicBezTo>
                <a:cubicBezTo>
                  <a:pt x="22655" y="7226"/>
                  <a:pt x="22663" y="7235"/>
                  <a:pt x="22671" y="7243"/>
                </a:cubicBezTo>
              </a:path>
              <a:path w="3821" h="6327">
                <a:moveTo>
                  <a:pt x="22796" y="6747"/>
                </a:moveTo>
                <a:cubicBezTo>
                  <a:pt x="22837" y="6916"/>
                  <a:pt x="22798" y="7048"/>
                  <a:pt x="22820" y="7218"/>
                </a:cubicBezTo>
                <a:cubicBezTo>
                  <a:pt x="22919" y="7200"/>
                  <a:pt x="23144" y="7150"/>
                  <a:pt x="23093" y="6995"/>
                </a:cubicBezTo>
                <a:cubicBezTo>
                  <a:pt x="23054" y="6874"/>
                  <a:pt x="22974" y="7108"/>
                  <a:pt x="22969" y="7119"/>
                </a:cubicBezTo>
              </a:path>
              <a:path w="3821" h="6327">
                <a:moveTo>
                  <a:pt x="23217" y="6573"/>
                </a:moveTo>
                <a:cubicBezTo>
                  <a:pt x="23303" y="6551"/>
                  <a:pt x="23494" y="6533"/>
                  <a:pt x="23465" y="6697"/>
                </a:cubicBezTo>
                <a:cubicBezTo>
                  <a:pt x="23459" y="6731"/>
                  <a:pt x="23367" y="6795"/>
                  <a:pt x="23341" y="6821"/>
                </a:cubicBezTo>
                <a:cubicBezTo>
                  <a:pt x="23458" y="6788"/>
                  <a:pt x="23671" y="6815"/>
                  <a:pt x="23639" y="7020"/>
                </a:cubicBezTo>
                <a:cubicBezTo>
                  <a:pt x="23618" y="7155"/>
                  <a:pt x="23392" y="7112"/>
                  <a:pt x="23316" y="7094"/>
                </a:cubicBezTo>
              </a:path>
              <a:path w="3821" h="6327">
                <a:moveTo>
                  <a:pt x="20985" y="7987"/>
                </a:moveTo>
                <a:cubicBezTo>
                  <a:pt x="21042" y="8128"/>
                  <a:pt x="21101" y="8268"/>
                  <a:pt x="21158" y="8409"/>
                </a:cubicBezTo>
              </a:path>
              <a:path w="3821" h="6327">
                <a:moveTo>
                  <a:pt x="21282" y="7863"/>
                </a:moveTo>
                <a:cubicBezTo>
                  <a:pt x="21185" y="8051"/>
                  <a:pt x="21103" y="8231"/>
                  <a:pt x="20985" y="8409"/>
                </a:cubicBezTo>
              </a:path>
              <a:path w="3821" h="6327">
                <a:moveTo>
                  <a:pt x="22969" y="7640"/>
                </a:moveTo>
                <a:cubicBezTo>
                  <a:pt x="22841" y="7651"/>
                  <a:pt x="22746" y="7627"/>
                  <a:pt x="22746" y="7789"/>
                </a:cubicBezTo>
                <a:cubicBezTo>
                  <a:pt x="22754" y="7805"/>
                  <a:pt x="22763" y="7822"/>
                  <a:pt x="22771" y="7838"/>
                </a:cubicBezTo>
                <a:cubicBezTo>
                  <a:pt x="22819" y="7854"/>
                  <a:pt x="22943" y="7805"/>
                  <a:pt x="22994" y="7863"/>
                </a:cubicBezTo>
                <a:cubicBezTo>
                  <a:pt x="23103" y="7986"/>
                  <a:pt x="22933" y="8044"/>
                  <a:pt x="22845" y="8062"/>
                </a:cubicBezTo>
                <a:cubicBezTo>
                  <a:pt x="22829" y="8062"/>
                  <a:pt x="22812" y="8062"/>
                  <a:pt x="22796" y="8062"/>
                </a:cubicBezTo>
              </a:path>
              <a:path w="3821" h="6327">
                <a:moveTo>
                  <a:pt x="23242" y="7863"/>
                </a:moveTo>
                <a:lnTo>
                  <a:pt x="23242" y="7863"/>
                </a:lnTo>
              </a:path>
              <a:path w="3821" h="6327">
                <a:moveTo>
                  <a:pt x="23688" y="7491"/>
                </a:moveTo>
                <a:cubicBezTo>
                  <a:pt x="23618" y="7504"/>
                  <a:pt x="23332" y="7568"/>
                  <a:pt x="23490" y="7689"/>
                </a:cubicBezTo>
                <a:cubicBezTo>
                  <a:pt x="23631" y="7797"/>
                  <a:pt x="23686" y="7756"/>
                  <a:pt x="23738" y="7913"/>
                </a:cubicBezTo>
                <a:cubicBezTo>
                  <a:pt x="23713" y="7929"/>
                  <a:pt x="23689" y="7946"/>
                  <a:pt x="23664" y="7962"/>
                </a:cubicBezTo>
                <a:cubicBezTo>
                  <a:pt x="23528" y="7828"/>
                  <a:pt x="23614" y="7718"/>
                  <a:pt x="23713" y="7541"/>
                </a:cubicBezTo>
              </a:path>
              <a:path w="3821" h="6327">
                <a:moveTo>
                  <a:pt x="21853" y="8533"/>
                </a:moveTo>
                <a:cubicBezTo>
                  <a:pt x="22372" y="8388"/>
                  <a:pt x="22882" y="8308"/>
                  <a:pt x="23416" y="8235"/>
                </a:cubicBezTo>
                <a:cubicBezTo>
                  <a:pt x="23721" y="8195"/>
                  <a:pt x="23778" y="8178"/>
                  <a:pt x="23961" y="8186"/>
                </a:cubicBezTo>
              </a:path>
              <a:path w="3821" h="6327">
                <a:moveTo>
                  <a:pt x="23788" y="8558"/>
                </a:moveTo>
                <a:cubicBezTo>
                  <a:pt x="23780" y="8662"/>
                  <a:pt x="23708" y="8814"/>
                  <a:pt x="23862" y="8806"/>
                </a:cubicBezTo>
                <a:cubicBezTo>
                  <a:pt x="24002" y="8782"/>
                  <a:pt x="24045" y="8780"/>
                  <a:pt x="24110" y="8706"/>
                </a:cubicBezTo>
              </a:path>
              <a:path w="3821" h="6327">
                <a:moveTo>
                  <a:pt x="24036" y="8458"/>
                </a:moveTo>
                <a:cubicBezTo>
                  <a:pt x="23997" y="8693"/>
                  <a:pt x="23986" y="8915"/>
                  <a:pt x="23986" y="9153"/>
                </a:cubicBezTo>
                <a:cubicBezTo>
                  <a:pt x="23986" y="9161"/>
                  <a:pt x="23986" y="9170"/>
                  <a:pt x="23986" y="9178"/>
                </a:cubicBezTo>
              </a:path>
              <a:path w="3821" h="6327">
                <a:moveTo>
                  <a:pt x="22721" y="6152"/>
                </a:moveTo>
                <a:cubicBezTo>
                  <a:pt x="22767" y="6083"/>
                  <a:pt x="22779" y="6063"/>
                  <a:pt x="22820" y="6028"/>
                </a:cubicBezTo>
                <a:cubicBezTo>
                  <a:pt x="22831" y="6174"/>
                  <a:pt x="22643" y="6373"/>
                  <a:pt x="22820" y="6325"/>
                </a:cubicBezTo>
                <a:cubicBezTo>
                  <a:pt x="22901" y="6285"/>
                  <a:pt x="22914" y="6269"/>
                  <a:pt x="22969" y="6276"/>
                </a:cubicBezTo>
              </a:path>
              <a:path w="3821" h="6327">
                <a:moveTo>
                  <a:pt x="23242" y="8706"/>
                </a:moveTo>
                <a:cubicBezTo>
                  <a:pt x="23115" y="8897"/>
                  <a:pt x="23079" y="9022"/>
                  <a:pt x="23068" y="9252"/>
                </a:cubicBezTo>
                <a:cubicBezTo>
                  <a:pt x="23249" y="9253"/>
                  <a:pt x="23381" y="9143"/>
                  <a:pt x="23391" y="8930"/>
                </a:cubicBezTo>
                <a:cubicBezTo>
                  <a:pt x="23397" y="8810"/>
                  <a:pt x="23327" y="8795"/>
                  <a:pt x="23242" y="8756"/>
                </a:cubicBezTo>
              </a:path>
              <a:path w="3821" h="6327">
                <a:moveTo>
                  <a:pt x="22225" y="5904"/>
                </a:moveTo>
                <a:cubicBezTo>
                  <a:pt x="22055" y="5867"/>
                  <a:pt x="22064" y="5882"/>
                  <a:pt x="22051" y="6052"/>
                </a:cubicBezTo>
                <a:cubicBezTo>
                  <a:pt x="22144" y="6052"/>
                  <a:pt x="22235" y="6003"/>
                  <a:pt x="22324" y="6052"/>
                </a:cubicBezTo>
                <a:cubicBezTo>
                  <a:pt x="22505" y="6151"/>
                  <a:pt x="22302" y="6268"/>
                  <a:pt x="22200" y="6300"/>
                </a:cubicBezTo>
                <a:cubicBezTo>
                  <a:pt x="22184" y="6300"/>
                  <a:pt x="22167" y="6300"/>
                  <a:pt x="22151" y="6300"/>
                </a:cubicBezTo>
              </a:path>
              <a:path w="3821" h="6327">
                <a:moveTo>
                  <a:pt x="22597" y="8830"/>
                </a:moveTo>
                <a:cubicBezTo>
                  <a:pt x="22615" y="9014"/>
                  <a:pt x="22641" y="9191"/>
                  <a:pt x="22647" y="9376"/>
                </a:cubicBezTo>
                <a:cubicBezTo>
                  <a:pt x="22647" y="9384"/>
                  <a:pt x="22647" y="9393"/>
                  <a:pt x="22647" y="9401"/>
                </a:cubicBezTo>
              </a:path>
              <a:path w="3821" h="6327">
                <a:moveTo>
                  <a:pt x="21332" y="6176"/>
                </a:moveTo>
                <a:cubicBezTo>
                  <a:pt x="21444" y="6154"/>
                  <a:pt x="21552" y="6102"/>
                  <a:pt x="21506" y="6276"/>
                </a:cubicBezTo>
                <a:cubicBezTo>
                  <a:pt x="21449" y="6491"/>
                  <a:pt x="21439" y="6439"/>
                  <a:pt x="21654" y="6350"/>
                </a:cubicBezTo>
              </a:path>
              <a:path w="3821" h="6327">
                <a:moveTo>
                  <a:pt x="21754" y="8954"/>
                </a:moveTo>
                <a:cubicBezTo>
                  <a:pt x="21883" y="8903"/>
                  <a:pt x="21966" y="8888"/>
                  <a:pt x="22101" y="8905"/>
                </a:cubicBezTo>
                <a:cubicBezTo>
                  <a:pt x="22140" y="9097"/>
                  <a:pt x="21978" y="9234"/>
                  <a:pt x="21853" y="9376"/>
                </a:cubicBezTo>
                <a:cubicBezTo>
                  <a:pt x="21828" y="9401"/>
                  <a:pt x="21804" y="9426"/>
                  <a:pt x="21779" y="9451"/>
                </a:cubicBezTo>
                <a:cubicBezTo>
                  <a:pt x="21950" y="9437"/>
                  <a:pt x="22083" y="9388"/>
                  <a:pt x="22250" y="9351"/>
                </a:cubicBezTo>
              </a:path>
              <a:path w="3821" h="6327">
                <a:moveTo>
                  <a:pt x="23912" y="9475"/>
                </a:moveTo>
                <a:cubicBezTo>
                  <a:pt x="23826" y="9628"/>
                  <a:pt x="23687" y="9862"/>
                  <a:pt x="23788" y="10046"/>
                </a:cubicBezTo>
                <a:cubicBezTo>
                  <a:pt x="23821" y="10071"/>
                  <a:pt x="23854" y="10095"/>
                  <a:pt x="23887" y="10120"/>
                </a:cubicBezTo>
                <a:cubicBezTo>
                  <a:pt x="24025" y="10017"/>
                  <a:pt x="24214" y="9842"/>
                  <a:pt x="24011" y="9674"/>
                </a:cubicBezTo>
                <a:cubicBezTo>
                  <a:pt x="23970" y="9657"/>
                  <a:pt x="23928" y="9641"/>
                  <a:pt x="23887" y="9624"/>
                </a:cubicBezTo>
              </a:path>
              <a:path w="3821" h="6327">
                <a:moveTo>
                  <a:pt x="23490" y="9723"/>
                </a:moveTo>
                <a:cubicBezTo>
                  <a:pt x="23409" y="9730"/>
                  <a:pt x="23214" y="9713"/>
                  <a:pt x="23217" y="9798"/>
                </a:cubicBezTo>
                <a:cubicBezTo>
                  <a:pt x="23220" y="9889"/>
                  <a:pt x="23242" y="9977"/>
                  <a:pt x="23242" y="10071"/>
                </a:cubicBezTo>
                <a:cubicBezTo>
                  <a:pt x="23377" y="10048"/>
                  <a:pt x="23444" y="10003"/>
                  <a:pt x="23589" y="10021"/>
                </a:cubicBezTo>
                <a:cubicBezTo>
                  <a:pt x="23601" y="10254"/>
                  <a:pt x="23525" y="10373"/>
                  <a:pt x="23242" y="10344"/>
                </a:cubicBezTo>
                <a:cubicBezTo>
                  <a:pt x="23209" y="10327"/>
                  <a:pt x="23176" y="10311"/>
                  <a:pt x="23143" y="10294"/>
                </a:cubicBezTo>
              </a:path>
              <a:path w="3821" h="6327">
                <a:moveTo>
                  <a:pt x="22771" y="5928"/>
                </a:moveTo>
                <a:cubicBezTo>
                  <a:pt x="22771" y="5895"/>
                  <a:pt x="22771" y="5879"/>
                  <a:pt x="22771" y="5854"/>
                </a:cubicBezTo>
                <a:cubicBezTo>
                  <a:pt x="22813" y="5995"/>
                  <a:pt x="22870" y="6129"/>
                  <a:pt x="22870" y="6276"/>
                </a:cubicBezTo>
              </a:path>
              <a:path w="3821" h="6327">
                <a:moveTo>
                  <a:pt x="22721" y="9798"/>
                </a:moveTo>
                <a:cubicBezTo>
                  <a:pt x="22730" y="9981"/>
                  <a:pt x="22760" y="10162"/>
                  <a:pt x="22771" y="10344"/>
                </a:cubicBezTo>
              </a:path>
              <a:path w="3821" h="6327">
                <a:moveTo>
                  <a:pt x="22027" y="5829"/>
                </a:moveTo>
                <a:cubicBezTo>
                  <a:pt x="22078" y="5752"/>
                  <a:pt x="22126" y="5711"/>
                  <a:pt x="22200" y="5655"/>
                </a:cubicBezTo>
                <a:cubicBezTo>
                  <a:pt x="22255" y="5809"/>
                  <a:pt x="22233" y="5860"/>
                  <a:pt x="22126" y="6003"/>
                </a:cubicBezTo>
                <a:cubicBezTo>
                  <a:pt x="22208" y="5934"/>
                  <a:pt x="22219" y="5942"/>
                  <a:pt x="22324" y="5928"/>
                </a:cubicBezTo>
                <a:cubicBezTo>
                  <a:pt x="22353" y="6073"/>
                  <a:pt x="22303" y="6163"/>
                  <a:pt x="22175" y="6251"/>
                </a:cubicBezTo>
                <a:cubicBezTo>
                  <a:pt x="22167" y="6251"/>
                  <a:pt x="22159" y="6251"/>
                  <a:pt x="22151" y="6251"/>
                </a:cubicBezTo>
              </a:path>
              <a:path w="3821" h="6327">
                <a:moveTo>
                  <a:pt x="21878" y="9971"/>
                </a:moveTo>
                <a:cubicBezTo>
                  <a:pt x="21919" y="9915"/>
                  <a:pt x="22170" y="9734"/>
                  <a:pt x="22151" y="9947"/>
                </a:cubicBezTo>
                <a:cubicBezTo>
                  <a:pt x="22142" y="10053"/>
                  <a:pt x="22069" y="10103"/>
                  <a:pt x="22002" y="10170"/>
                </a:cubicBezTo>
                <a:cubicBezTo>
                  <a:pt x="22063" y="10100"/>
                  <a:pt x="22284" y="9987"/>
                  <a:pt x="22299" y="10195"/>
                </a:cubicBezTo>
                <a:cubicBezTo>
                  <a:pt x="22319" y="10479"/>
                  <a:pt x="22066" y="10442"/>
                  <a:pt x="21903" y="10393"/>
                </a:cubicBezTo>
              </a:path>
              <a:path w="3821" h="6327">
                <a:moveTo>
                  <a:pt x="21406" y="6350"/>
                </a:moveTo>
                <a:cubicBezTo>
                  <a:pt x="21393" y="6269"/>
                  <a:pt x="21362" y="6210"/>
                  <a:pt x="21357" y="6127"/>
                </a:cubicBezTo>
                <a:cubicBezTo>
                  <a:pt x="21357" y="6119"/>
                  <a:pt x="21357" y="6110"/>
                  <a:pt x="21357" y="6102"/>
                </a:cubicBezTo>
                <a:cubicBezTo>
                  <a:pt x="21367" y="6130"/>
                  <a:pt x="21525" y="6510"/>
                  <a:pt x="21456" y="6375"/>
                </a:cubicBezTo>
              </a:path>
              <a:path w="3821" h="6327">
                <a:moveTo>
                  <a:pt x="21332" y="10021"/>
                </a:moveTo>
                <a:cubicBezTo>
                  <a:pt x="21342" y="10163"/>
                  <a:pt x="21377" y="10300"/>
                  <a:pt x="21382" y="10443"/>
                </a:cubicBezTo>
                <a:cubicBezTo>
                  <a:pt x="21382" y="10459"/>
                  <a:pt x="21382" y="10476"/>
                  <a:pt x="21382" y="10492"/>
                </a:cubicBezTo>
              </a:path>
              <a:path w="3821" h="6327">
                <a:moveTo>
                  <a:pt x="21010" y="10592"/>
                </a:moveTo>
                <a:cubicBezTo>
                  <a:pt x="21305" y="10561"/>
                  <a:pt x="21604" y="10524"/>
                  <a:pt x="21903" y="10492"/>
                </a:cubicBezTo>
                <a:cubicBezTo>
                  <a:pt x="22414" y="10438"/>
                  <a:pt x="22930" y="10424"/>
                  <a:pt x="23440" y="10368"/>
                </a:cubicBezTo>
                <a:cubicBezTo>
                  <a:pt x="23667" y="10343"/>
                  <a:pt x="23883" y="10304"/>
                  <a:pt x="24110" y="10294"/>
                </a:cubicBezTo>
              </a:path>
              <a:path w="3821" h="6327">
                <a:moveTo>
                  <a:pt x="24061" y="10716"/>
                </a:moveTo>
                <a:cubicBezTo>
                  <a:pt x="24073" y="10801"/>
                  <a:pt x="24037" y="11052"/>
                  <a:pt x="24160" y="11038"/>
                </a:cubicBezTo>
                <a:cubicBezTo>
                  <a:pt x="24244" y="11017"/>
                  <a:pt x="24263" y="11015"/>
                  <a:pt x="24309" y="10988"/>
                </a:cubicBezTo>
              </a:path>
              <a:path w="3821" h="6327">
                <a:moveTo>
                  <a:pt x="24160" y="10641"/>
                </a:moveTo>
                <a:cubicBezTo>
                  <a:pt x="24097" y="10829"/>
                  <a:pt x="24110" y="11014"/>
                  <a:pt x="24110" y="11212"/>
                </a:cubicBezTo>
                <a:cubicBezTo>
                  <a:pt x="24110" y="11361"/>
                  <a:pt x="24110" y="11394"/>
                  <a:pt x="24110" y="11485"/>
                </a:cubicBezTo>
              </a:path>
              <a:path w="3821" h="6327">
                <a:moveTo>
                  <a:pt x="23639" y="10939"/>
                </a:moveTo>
                <a:cubicBezTo>
                  <a:pt x="23587" y="10944"/>
                  <a:pt x="23444" y="10942"/>
                  <a:pt x="23440" y="10988"/>
                </a:cubicBezTo>
                <a:cubicBezTo>
                  <a:pt x="23434" y="11052"/>
                  <a:pt x="23440" y="11122"/>
                  <a:pt x="23440" y="11187"/>
                </a:cubicBezTo>
                <a:cubicBezTo>
                  <a:pt x="23565" y="11163"/>
                  <a:pt x="23819" y="11113"/>
                  <a:pt x="23912" y="11237"/>
                </a:cubicBezTo>
                <a:cubicBezTo>
                  <a:pt x="24061" y="11435"/>
                  <a:pt x="23663" y="11556"/>
                  <a:pt x="23540" y="11559"/>
                </a:cubicBezTo>
                <a:cubicBezTo>
                  <a:pt x="23523" y="11551"/>
                  <a:pt x="23507" y="11542"/>
                  <a:pt x="23490" y="11534"/>
                </a:cubicBezTo>
              </a:path>
              <a:path w="3821" h="6327">
                <a:moveTo>
                  <a:pt x="23937" y="10691"/>
                </a:moveTo>
                <a:cubicBezTo>
                  <a:pt x="23911" y="10734"/>
                  <a:pt x="23823" y="10898"/>
                  <a:pt x="23912" y="10939"/>
                </a:cubicBezTo>
                <a:cubicBezTo>
                  <a:pt x="23951" y="10957"/>
                  <a:pt x="24041" y="10939"/>
                  <a:pt x="24085" y="10939"/>
                </a:cubicBezTo>
              </a:path>
              <a:path w="3821" h="6327">
                <a:moveTo>
                  <a:pt x="22845" y="11038"/>
                </a:moveTo>
                <a:cubicBezTo>
                  <a:pt x="22859" y="10967"/>
                  <a:pt x="22896" y="10874"/>
                  <a:pt x="22994" y="10939"/>
                </a:cubicBezTo>
                <a:cubicBezTo>
                  <a:pt x="23076" y="10993"/>
                  <a:pt x="23045" y="11069"/>
                  <a:pt x="23019" y="11137"/>
                </a:cubicBezTo>
                <a:cubicBezTo>
                  <a:pt x="22976" y="11249"/>
                  <a:pt x="22897" y="11329"/>
                  <a:pt x="22845" y="11435"/>
                </a:cubicBezTo>
                <a:cubicBezTo>
                  <a:pt x="22800" y="11528"/>
                  <a:pt x="22802" y="11666"/>
                  <a:pt x="22820" y="11757"/>
                </a:cubicBezTo>
                <a:cubicBezTo>
                  <a:pt x="22859" y="11650"/>
                  <a:pt x="22881" y="11566"/>
                  <a:pt x="23019" y="11584"/>
                </a:cubicBezTo>
                <a:cubicBezTo>
                  <a:pt x="23134" y="11599"/>
                  <a:pt x="23194" y="11646"/>
                  <a:pt x="23267" y="11559"/>
                </a:cubicBezTo>
              </a:path>
              <a:path w="3821" h="6327">
                <a:moveTo>
                  <a:pt x="22374" y="11112"/>
                </a:moveTo>
                <a:cubicBezTo>
                  <a:pt x="22299" y="11117"/>
                  <a:pt x="22061" y="11105"/>
                  <a:pt x="22051" y="11212"/>
                </a:cubicBezTo>
                <a:cubicBezTo>
                  <a:pt x="22043" y="11296"/>
                  <a:pt x="22076" y="11415"/>
                  <a:pt x="22076" y="11509"/>
                </a:cubicBezTo>
                <a:cubicBezTo>
                  <a:pt x="22193" y="11466"/>
                  <a:pt x="22373" y="11305"/>
                  <a:pt x="22498" y="11435"/>
                </a:cubicBezTo>
                <a:cubicBezTo>
                  <a:pt x="22709" y="11654"/>
                  <a:pt x="22338" y="11766"/>
                  <a:pt x="22200" y="11782"/>
                </a:cubicBezTo>
                <a:cubicBezTo>
                  <a:pt x="22159" y="11782"/>
                  <a:pt x="22117" y="11782"/>
                  <a:pt x="22076" y="11782"/>
                </a:cubicBezTo>
              </a:path>
              <a:path w="3821" h="6327">
                <a:moveTo>
                  <a:pt x="21630" y="11162"/>
                </a:moveTo>
                <a:cubicBezTo>
                  <a:pt x="21644" y="11402"/>
                  <a:pt x="21670" y="11641"/>
                  <a:pt x="21679" y="11881"/>
                </a:cubicBezTo>
              </a:path>
              <a:path w="3821" h="6327">
                <a:moveTo>
                  <a:pt x="20563" y="9798"/>
                </a:moveTo>
                <a:cubicBezTo>
                  <a:pt x="20594" y="9913"/>
                  <a:pt x="20616" y="10028"/>
                  <a:pt x="20638" y="10145"/>
                </a:cubicBezTo>
              </a:path>
              <a:path w="3821" h="6327">
                <a:moveTo>
                  <a:pt x="20489" y="10046"/>
                </a:moveTo>
                <a:cubicBezTo>
                  <a:pt x="20582" y="9995"/>
                  <a:pt x="20663" y="9957"/>
                  <a:pt x="20762" y="9922"/>
                </a:cubicBezTo>
              </a:path>
              <a:path w="3821" h="6327">
                <a:moveTo>
                  <a:pt x="21878" y="11956"/>
                </a:moveTo>
                <a:cubicBezTo>
                  <a:pt x="21878" y="11880"/>
                  <a:pt x="21875" y="11937"/>
                  <a:pt x="21927" y="11981"/>
                </a:cubicBezTo>
                <a:cubicBezTo>
                  <a:pt x="21927" y="11916"/>
                  <a:pt x="21823" y="11921"/>
                  <a:pt x="21878" y="11956"/>
                </a:cubicBezTo>
                <a:cubicBezTo>
                  <a:pt x="21953" y="12004"/>
                  <a:pt x="21980" y="11794"/>
                  <a:pt x="21927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0200" y="5429160"/>
            <a:ext cx="24948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6892" y="15106"/>
                </a:moveTo>
                <a:cubicBezTo>
                  <a:pt x="16829" y="15043"/>
                  <a:pt x="16702" y="15385"/>
                  <a:pt x="16694" y="15453"/>
                </a:cubicBezTo>
                <a:cubicBezTo>
                  <a:pt x="16702" y="15503"/>
                  <a:pt x="16710" y="15552"/>
                  <a:pt x="16718" y="15602"/>
                </a:cubicBezTo>
                <a:cubicBezTo>
                  <a:pt x="16907" y="15616"/>
                  <a:pt x="17059" y="15521"/>
                  <a:pt x="17090" y="15304"/>
                </a:cubicBezTo>
                <a:cubicBezTo>
                  <a:pt x="17100" y="15232"/>
                  <a:pt x="16982" y="15042"/>
                  <a:pt x="16892" y="15081"/>
                </a:cubicBezTo>
                <a:cubicBezTo>
                  <a:pt x="16884" y="15098"/>
                  <a:pt x="16875" y="15114"/>
                  <a:pt x="16867" y="15131"/>
                </a:cubicBezTo>
              </a:path>
              <a:path w="695" h="547">
                <a:moveTo>
                  <a:pt x="17388" y="15453"/>
                </a:moveTo>
                <a:lnTo>
                  <a:pt x="17388" y="154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67320" y="5340240"/>
            <a:ext cx="473040" cy="223920"/>
          </a:xfrm>
          <a:custGeom>
            <a:avLst/>
            <a:gdLst/>
            <a:ahLst/>
            <a:rect l="l" t="t" r="r" b="b"/>
            <a:pathLst>
              <a:path w="1315" h="621">
                <a:moveTo>
                  <a:pt x="17959" y="15081"/>
                </a:moveTo>
                <a:cubicBezTo>
                  <a:pt x="17818" y="15093"/>
                  <a:pt x="17673" y="15148"/>
                  <a:pt x="17686" y="15329"/>
                </a:cubicBezTo>
                <a:cubicBezTo>
                  <a:pt x="17703" y="15568"/>
                  <a:pt x="18039" y="15428"/>
                  <a:pt x="18083" y="15280"/>
                </a:cubicBezTo>
                <a:cubicBezTo>
                  <a:pt x="18055" y="15195"/>
                  <a:pt x="18037" y="15165"/>
                  <a:pt x="17959" y="15156"/>
                </a:cubicBezTo>
              </a:path>
              <a:path w="1315" h="621">
                <a:moveTo>
                  <a:pt x="18455" y="15056"/>
                </a:moveTo>
                <a:cubicBezTo>
                  <a:pt x="18321" y="15086"/>
                  <a:pt x="18203" y="15222"/>
                  <a:pt x="18256" y="15379"/>
                </a:cubicBezTo>
                <a:cubicBezTo>
                  <a:pt x="18281" y="15404"/>
                  <a:pt x="18306" y="15428"/>
                  <a:pt x="18331" y="15453"/>
                </a:cubicBezTo>
                <a:cubicBezTo>
                  <a:pt x="18432" y="15422"/>
                  <a:pt x="18726" y="15303"/>
                  <a:pt x="18554" y="15131"/>
                </a:cubicBezTo>
                <a:cubicBezTo>
                  <a:pt x="18521" y="15123"/>
                  <a:pt x="18488" y="15114"/>
                  <a:pt x="18455" y="15106"/>
                </a:cubicBezTo>
              </a:path>
              <a:path w="1315" h="621">
                <a:moveTo>
                  <a:pt x="18628" y="14957"/>
                </a:moveTo>
                <a:cubicBezTo>
                  <a:pt x="18734" y="14919"/>
                  <a:pt x="18824" y="14903"/>
                  <a:pt x="18926" y="14858"/>
                </a:cubicBezTo>
                <a:cubicBezTo>
                  <a:pt x="18943" y="14850"/>
                  <a:pt x="18959" y="14841"/>
                  <a:pt x="18976" y="14833"/>
                </a:cubicBezTo>
                <a:cubicBezTo>
                  <a:pt x="19003" y="14991"/>
                  <a:pt x="19003" y="15124"/>
                  <a:pt x="18951" y="15280"/>
                </a:cubicBezTo>
                <a:cubicBezTo>
                  <a:pt x="18929" y="15345"/>
                  <a:pt x="18926" y="15335"/>
                  <a:pt x="18926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4000" y="5249880"/>
            <a:ext cx="1743120" cy="1509840"/>
          </a:xfrm>
          <a:custGeom>
            <a:avLst/>
            <a:gdLst/>
            <a:ahLst/>
            <a:rect l="l" t="t" r="r" b="b"/>
            <a:pathLst>
              <a:path w="4838" h="4193">
                <a:moveTo>
                  <a:pt x="15652" y="16073"/>
                </a:moveTo>
                <a:cubicBezTo>
                  <a:pt x="15769" y="16199"/>
                  <a:pt x="15881" y="16326"/>
                  <a:pt x="15974" y="16470"/>
                </a:cubicBezTo>
              </a:path>
              <a:path w="4838" h="4193">
                <a:moveTo>
                  <a:pt x="15974" y="15974"/>
                </a:moveTo>
                <a:cubicBezTo>
                  <a:pt x="15887" y="16150"/>
                  <a:pt x="15833" y="16327"/>
                  <a:pt x="15726" y="16495"/>
                </a:cubicBezTo>
              </a:path>
              <a:path w="4838" h="4193">
                <a:moveTo>
                  <a:pt x="18380" y="15701"/>
                </a:moveTo>
                <a:cubicBezTo>
                  <a:pt x="18407" y="15834"/>
                  <a:pt x="18405" y="15961"/>
                  <a:pt x="18405" y="16098"/>
                </a:cubicBezTo>
              </a:path>
              <a:path w="4838" h="4193">
                <a:moveTo>
                  <a:pt x="18728" y="15900"/>
                </a:moveTo>
                <a:lnTo>
                  <a:pt x="18728" y="15900"/>
                </a:lnTo>
              </a:path>
              <a:path w="4838" h="4193">
                <a:moveTo>
                  <a:pt x="18926" y="15677"/>
                </a:moveTo>
                <a:cubicBezTo>
                  <a:pt x="18982" y="15644"/>
                  <a:pt x="19164" y="15509"/>
                  <a:pt x="19100" y="15701"/>
                </a:cubicBezTo>
                <a:cubicBezTo>
                  <a:pt x="19083" y="15726"/>
                  <a:pt x="19067" y="15751"/>
                  <a:pt x="19050" y="15776"/>
                </a:cubicBezTo>
                <a:cubicBezTo>
                  <a:pt x="19033" y="15784"/>
                  <a:pt x="19017" y="15793"/>
                  <a:pt x="19000" y="15801"/>
                </a:cubicBezTo>
                <a:cubicBezTo>
                  <a:pt x="19095" y="15769"/>
                  <a:pt x="19241" y="15707"/>
                  <a:pt x="19248" y="15875"/>
                </a:cubicBezTo>
                <a:cubicBezTo>
                  <a:pt x="19253" y="15993"/>
                  <a:pt x="19134" y="16012"/>
                  <a:pt x="19050" y="16024"/>
                </a:cubicBezTo>
              </a:path>
              <a:path w="4838" h="4193">
                <a:moveTo>
                  <a:pt x="16942" y="16594"/>
                </a:moveTo>
                <a:cubicBezTo>
                  <a:pt x="17164" y="16572"/>
                  <a:pt x="17373" y="16459"/>
                  <a:pt x="17587" y="16396"/>
                </a:cubicBezTo>
                <a:cubicBezTo>
                  <a:pt x="18048" y="16261"/>
                  <a:pt x="18549" y="16138"/>
                  <a:pt x="19025" y="16073"/>
                </a:cubicBezTo>
                <a:cubicBezTo>
                  <a:pt x="19124" y="16073"/>
                  <a:pt x="19141" y="16073"/>
                  <a:pt x="19199" y="16073"/>
                </a:cubicBezTo>
              </a:path>
              <a:path w="4838" h="4193">
                <a:moveTo>
                  <a:pt x="19199" y="16495"/>
                </a:moveTo>
                <a:cubicBezTo>
                  <a:pt x="19178" y="16686"/>
                  <a:pt x="19168" y="16875"/>
                  <a:pt x="19149" y="17066"/>
                </a:cubicBezTo>
              </a:path>
              <a:path w="4838" h="4193">
                <a:moveTo>
                  <a:pt x="18132" y="14635"/>
                </a:moveTo>
                <a:cubicBezTo>
                  <a:pt x="18217" y="14592"/>
                  <a:pt x="18259" y="14585"/>
                  <a:pt x="18355" y="14585"/>
                </a:cubicBezTo>
                <a:cubicBezTo>
                  <a:pt x="18297" y="14714"/>
                  <a:pt x="18248" y="14801"/>
                  <a:pt x="18157" y="14908"/>
                </a:cubicBezTo>
                <a:cubicBezTo>
                  <a:pt x="18246" y="14933"/>
                  <a:pt x="18286" y="14899"/>
                  <a:pt x="18380" y="14858"/>
                </a:cubicBezTo>
              </a:path>
              <a:path w="4838" h="4193">
                <a:moveTo>
                  <a:pt x="18430" y="16743"/>
                </a:moveTo>
                <a:cubicBezTo>
                  <a:pt x="18496" y="16736"/>
                  <a:pt x="18562" y="16725"/>
                  <a:pt x="18628" y="16718"/>
                </a:cubicBezTo>
                <a:cubicBezTo>
                  <a:pt x="18596" y="16925"/>
                  <a:pt x="18534" y="17048"/>
                  <a:pt x="18380" y="17190"/>
                </a:cubicBezTo>
                <a:cubicBezTo>
                  <a:pt x="18496" y="17164"/>
                  <a:pt x="18614" y="17094"/>
                  <a:pt x="18728" y="17041"/>
                </a:cubicBezTo>
              </a:path>
              <a:path w="4838" h="4193">
                <a:moveTo>
                  <a:pt x="17711" y="16867"/>
                </a:moveTo>
                <a:cubicBezTo>
                  <a:pt x="17600" y="16955"/>
                  <a:pt x="17621" y="17078"/>
                  <a:pt x="17636" y="17214"/>
                </a:cubicBezTo>
                <a:cubicBezTo>
                  <a:pt x="17725" y="17222"/>
                  <a:pt x="18035" y="17134"/>
                  <a:pt x="17959" y="16966"/>
                </a:cubicBezTo>
                <a:cubicBezTo>
                  <a:pt x="17926" y="16950"/>
                  <a:pt x="17892" y="16933"/>
                  <a:pt x="17859" y="16917"/>
                </a:cubicBezTo>
              </a:path>
              <a:path w="4838" h="4193">
                <a:moveTo>
                  <a:pt x="17090" y="16892"/>
                </a:moveTo>
                <a:cubicBezTo>
                  <a:pt x="17023" y="17044"/>
                  <a:pt x="16978" y="17176"/>
                  <a:pt x="16942" y="17338"/>
                </a:cubicBezTo>
                <a:cubicBezTo>
                  <a:pt x="17075" y="17352"/>
                  <a:pt x="17239" y="17266"/>
                  <a:pt x="17239" y="17090"/>
                </a:cubicBezTo>
                <a:cubicBezTo>
                  <a:pt x="17188" y="16986"/>
                  <a:pt x="17166" y="16954"/>
                  <a:pt x="17066" y="17016"/>
                </a:cubicBezTo>
              </a:path>
              <a:path w="4838" h="4193">
                <a:moveTo>
                  <a:pt x="17462" y="15553"/>
                </a:moveTo>
                <a:cubicBezTo>
                  <a:pt x="17551" y="15596"/>
                  <a:pt x="17621" y="15701"/>
                  <a:pt x="17711" y="15726"/>
                </a:cubicBezTo>
                <a:cubicBezTo>
                  <a:pt x="17821" y="15757"/>
                  <a:pt x="18049" y="15702"/>
                  <a:pt x="18132" y="15627"/>
                </a:cubicBezTo>
                <a:cubicBezTo>
                  <a:pt x="18140" y="15610"/>
                  <a:pt x="18149" y="15594"/>
                  <a:pt x="18157" y="15577"/>
                </a:cubicBezTo>
                <a:cubicBezTo>
                  <a:pt x="18260" y="15601"/>
                  <a:pt x="18322" y="15588"/>
                  <a:pt x="18430" y="15577"/>
                </a:cubicBezTo>
                <a:cubicBezTo>
                  <a:pt x="18531" y="15567"/>
                  <a:pt x="18560" y="15570"/>
                  <a:pt x="18653" y="15528"/>
                </a:cubicBezTo>
                <a:cubicBezTo>
                  <a:pt x="18758" y="15480"/>
                  <a:pt x="18727" y="15534"/>
                  <a:pt x="18852" y="15528"/>
                </a:cubicBezTo>
                <a:cubicBezTo>
                  <a:pt x="18998" y="15520"/>
                  <a:pt x="19165" y="15443"/>
                  <a:pt x="19273" y="15354"/>
                </a:cubicBezTo>
                <a:cubicBezTo>
                  <a:pt x="19307" y="15320"/>
                  <a:pt x="19315" y="15299"/>
                  <a:pt x="19298" y="15255"/>
                </a:cubicBezTo>
              </a:path>
              <a:path w="4838" h="4193">
                <a:moveTo>
                  <a:pt x="19819" y="14759"/>
                </a:moveTo>
                <a:cubicBezTo>
                  <a:pt x="19873" y="14725"/>
                  <a:pt x="20195" y="14577"/>
                  <a:pt x="20042" y="14808"/>
                </a:cubicBezTo>
                <a:cubicBezTo>
                  <a:pt x="20017" y="14825"/>
                  <a:pt x="19993" y="14841"/>
                  <a:pt x="19968" y="14858"/>
                </a:cubicBezTo>
                <a:cubicBezTo>
                  <a:pt x="20044" y="14858"/>
                  <a:pt x="20070" y="14859"/>
                  <a:pt x="20117" y="14883"/>
                </a:cubicBezTo>
                <a:cubicBezTo>
                  <a:pt x="20085" y="14978"/>
                  <a:pt x="20059" y="14986"/>
                  <a:pt x="19968" y="15032"/>
                </a:cubicBezTo>
              </a:path>
              <a:path w="4838" h="4193">
                <a:moveTo>
                  <a:pt x="18827" y="16049"/>
                </a:moveTo>
                <a:cubicBezTo>
                  <a:pt x="18953" y="16164"/>
                  <a:pt x="19039" y="16254"/>
                  <a:pt x="19224" y="16197"/>
                </a:cubicBezTo>
                <a:cubicBezTo>
                  <a:pt x="19336" y="16163"/>
                  <a:pt x="19443" y="16080"/>
                  <a:pt x="19546" y="16024"/>
                </a:cubicBezTo>
              </a:path>
              <a:path w="4838" h="4193">
                <a:moveTo>
                  <a:pt x="20092" y="15602"/>
                </a:moveTo>
                <a:cubicBezTo>
                  <a:pt x="20100" y="15680"/>
                  <a:pt x="20118" y="15749"/>
                  <a:pt x="20141" y="15825"/>
                </a:cubicBezTo>
              </a:path>
              <a:path w="4838" h="4193">
                <a:moveTo>
                  <a:pt x="19819" y="15304"/>
                </a:moveTo>
                <a:cubicBezTo>
                  <a:pt x="19819" y="15389"/>
                  <a:pt x="19812" y="15409"/>
                  <a:pt x="19844" y="15453"/>
                </a:cubicBezTo>
              </a:path>
              <a:path w="4838" h="4193">
                <a:moveTo>
                  <a:pt x="19769" y="15453"/>
                </a:moveTo>
                <a:cubicBezTo>
                  <a:pt x="19834" y="15410"/>
                  <a:pt x="19849" y="15399"/>
                  <a:pt x="19893" y="15379"/>
                </a:cubicBezTo>
              </a:path>
              <a:path w="4838" h="4193">
                <a:moveTo>
                  <a:pt x="19993" y="16049"/>
                </a:moveTo>
                <a:cubicBezTo>
                  <a:pt x="20165" y="15956"/>
                  <a:pt x="20300" y="15880"/>
                  <a:pt x="20489" y="15850"/>
                </a:cubicBezTo>
              </a:path>
              <a:path w="4838" h="4193">
                <a:moveTo>
                  <a:pt x="20216" y="16098"/>
                </a:moveTo>
                <a:cubicBezTo>
                  <a:pt x="20255" y="16190"/>
                  <a:pt x="20274" y="16165"/>
                  <a:pt x="20389" y="16173"/>
                </a:cubicBezTo>
              </a:path>
              <a:path w="4838" h="4193">
                <a:moveTo>
                  <a:pt x="20340" y="16073"/>
                </a:moveTo>
                <a:cubicBezTo>
                  <a:pt x="20365" y="16221"/>
                  <a:pt x="20373" y="16270"/>
                  <a:pt x="20365" y="16371"/>
                </a:cubicBezTo>
              </a:path>
              <a:path w="4838" h="4193">
                <a:moveTo>
                  <a:pt x="17264" y="18703"/>
                </a:moveTo>
                <a:cubicBezTo>
                  <a:pt x="17242" y="18659"/>
                  <a:pt x="17239" y="18647"/>
                  <a:pt x="17214" y="18628"/>
                </a:cubicBezTo>
                <a:cubicBezTo>
                  <a:pt x="17199" y="18713"/>
                  <a:pt x="17158" y="18758"/>
                  <a:pt x="17214" y="187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29200" y="6259680"/>
            <a:ext cx="1017720" cy="268200"/>
          </a:xfrm>
          <a:custGeom>
            <a:avLst/>
            <a:gdLst/>
            <a:ahLst/>
            <a:rect l="l" t="t" r="r" b="b"/>
            <a:pathLst>
              <a:path w="2829" h="745">
                <a:moveTo>
                  <a:pt x="19149" y="17388"/>
                </a:moveTo>
                <a:cubicBezTo>
                  <a:pt x="19075" y="17462"/>
                  <a:pt x="18931" y="17682"/>
                  <a:pt x="19174" y="17661"/>
                </a:cubicBezTo>
                <a:cubicBezTo>
                  <a:pt x="19207" y="17644"/>
                  <a:pt x="19240" y="17628"/>
                  <a:pt x="19273" y="17611"/>
                </a:cubicBezTo>
                <a:cubicBezTo>
                  <a:pt x="19284" y="17442"/>
                  <a:pt x="19273" y="17365"/>
                  <a:pt x="19100" y="17438"/>
                </a:cubicBezTo>
              </a:path>
              <a:path w="2829" h="745">
                <a:moveTo>
                  <a:pt x="18430" y="17636"/>
                </a:moveTo>
                <a:cubicBezTo>
                  <a:pt x="18476" y="17514"/>
                  <a:pt x="18601" y="17482"/>
                  <a:pt x="18728" y="17438"/>
                </a:cubicBezTo>
                <a:cubicBezTo>
                  <a:pt x="18751" y="17569"/>
                  <a:pt x="18710" y="17699"/>
                  <a:pt x="18678" y="17835"/>
                </a:cubicBezTo>
              </a:path>
              <a:path w="2829" h="745">
                <a:moveTo>
                  <a:pt x="18033" y="17587"/>
                </a:moveTo>
                <a:cubicBezTo>
                  <a:pt x="17883" y="17637"/>
                  <a:pt x="17858" y="17720"/>
                  <a:pt x="17835" y="17884"/>
                </a:cubicBezTo>
                <a:cubicBezTo>
                  <a:pt x="17887" y="17856"/>
                  <a:pt x="18186" y="17675"/>
                  <a:pt x="17983" y="17611"/>
                </a:cubicBezTo>
                <a:cubicBezTo>
                  <a:pt x="17934" y="17611"/>
                  <a:pt x="17884" y="17611"/>
                  <a:pt x="17835" y="17611"/>
                </a:cubicBezTo>
              </a:path>
              <a:path w="2829" h="745">
                <a:moveTo>
                  <a:pt x="17314" y="17636"/>
                </a:moveTo>
                <a:cubicBezTo>
                  <a:pt x="17243" y="17717"/>
                  <a:pt x="17246" y="17768"/>
                  <a:pt x="17239" y="17884"/>
                </a:cubicBezTo>
                <a:cubicBezTo>
                  <a:pt x="17331" y="17884"/>
                  <a:pt x="17525" y="17782"/>
                  <a:pt x="17413" y="17636"/>
                </a:cubicBezTo>
                <a:cubicBezTo>
                  <a:pt x="17388" y="17628"/>
                  <a:pt x="17363" y="17619"/>
                  <a:pt x="17338" y="17611"/>
                </a:cubicBezTo>
              </a:path>
              <a:path w="2829" h="745">
                <a:moveTo>
                  <a:pt x="16619" y="17661"/>
                </a:moveTo>
                <a:cubicBezTo>
                  <a:pt x="16546" y="17770"/>
                  <a:pt x="16529" y="17821"/>
                  <a:pt x="16520" y="17959"/>
                </a:cubicBezTo>
                <a:cubicBezTo>
                  <a:pt x="16596" y="17959"/>
                  <a:pt x="16967" y="17897"/>
                  <a:pt x="16867" y="17711"/>
                </a:cubicBezTo>
                <a:cubicBezTo>
                  <a:pt x="16834" y="17694"/>
                  <a:pt x="16801" y="17678"/>
                  <a:pt x="16768" y="17661"/>
                </a:cubicBezTo>
              </a:path>
              <a:path w="2829" h="745">
                <a:moveTo>
                  <a:pt x="16470" y="18132"/>
                </a:moveTo>
                <a:cubicBezTo>
                  <a:pt x="16739" y="18109"/>
                  <a:pt x="16995" y="18018"/>
                  <a:pt x="17264" y="17983"/>
                </a:cubicBezTo>
                <a:cubicBezTo>
                  <a:pt x="17660" y="17931"/>
                  <a:pt x="18039" y="17871"/>
                  <a:pt x="18430" y="17785"/>
                </a:cubicBezTo>
                <a:cubicBezTo>
                  <a:pt x="18719" y="17722"/>
                  <a:pt x="19011" y="17650"/>
                  <a:pt x="19298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02280" y="6465960"/>
            <a:ext cx="44640" cy="177840"/>
          </a:xfrm>
          <a:custGeom>
            <a:avLst/>
            <a:gdLst/>
            <a:ahLst/>
            <a:rect l="l" t="t" r="r" b="b"/>
            <a:pathLst>
              <a:path w="125" h="497">
                <a:moveTo>
                  <a:pt x="19298" y="17959"/>
                </a:moveTo>
                <a:cubicBezTo>
                  <a:pt x="19219" y="18105"/>
                  <a:pt x="19210" y="18283"/>
                  <a:pt x="19174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3240" y="6500880"/>
            <a:ext cx="258840" cy="179280"/>
          </a:xfrm>
          <a:custGeom>
            <a:avLst/>
            <a:gdLst/>
            <a:ahLst/>
            <a:rect l="l" t="t" r="r" b="b"/>
            <a:pathLst>
              <a:path w="721" h="497">
                <a:moveTo>
                  <a:pt x="18678" y="18207"/>
                </a:moveTo>
                <a:cubicBezTo>
                  <a:pt x="18736" y="18139"/>
                  <a:pt x="18728" y="18165"/>
                  <a:pt x="18728" y="18083"/>
                </a:cubicBezTo>
                <a:cubicBezTo>
                  <a:pt x="18581" y="18034"/>
                  <a:pt x="18484" y="18118"/>
                  <a:pt x="18455" y="18281"/>
                </a:cubicBezTo>
                <a:cubicBezTo>
                  <a:pt x="18463" y="18298"/>
                  <a:pt x="18471" y="18314"/>
                  <a:pt x="18479" y="18331"/>
                </a:cubicBezTo>
                <a:cubicBezTo>
                  <a:pt x="18591" y="18279"/>
                  <a:pt x="18611" y="18269"/>
                  <a:pt x="18678" y="18157"/>
                </a:cubicBezTo>
                <a:cubicBezTo>
                  <a:pt x="18678" y="18295"/>
                  <a:pt x="18682" y="18421"/>
                  <a:pt x="18653" y="18554"/>
                </a:cubicBezTo>
              </a:path>
              <a:path w="721" h="497">
                <a:moveTo>
                  <a:pt x="18132" y="18207"/>
                </a:moveTo>
                <a:cubicBezTo>
                  <a:pt x="18094" y="18312"/>
                  <a:pt x="18071" y="18395"/>
                  <a:pt x="18058" y="18504"/>
                </a:cubicBezTo>
                <a:cubicBezTo>
                  <a:pt x="18150" y="18484"/>
                  <a:pt x="18422" y="18338"/>
                  <a:pt x="18157" y="18281"/>
                </a:cubicBezTo>
                <a:cubicBezTo>
                  <a:pt x="18107" y="18281"/>
                  <a:pt x="18058" y="18281"/>
                  <a:pt x="18008" y="182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54840" y="6607080"/>
            <a:ext cx="285480" cy="135000"/>
          </a:xfrm>
          <a:custGeom>
            <a:avLst/>
            <a:gdLst/>
            <a:ahLst/>
            <a:rect l="l" t="t" r="r" b="b"/>
            <a:pathLst>
              <a:path w="794" h="374">
                <a:moveTo>
                  <a:pt x="17438" y="18380"/>
                </a:moveTo>
                <a:cubicBezTo>
                  <a:pt x="17367" y="18427"/>
                  <a:pt x="17388" y="18465"/>
                  <a:pt x="17388" y="18579"/>
                </a:cubicBezTo>
                <a:cubicBezTo>
                  <a:pt x="17464" y="18593"/>
                  <a:pt x="17769" y="18483"/>
                  <a:pt x="17587" y="18380"/>
                </a:cubicBezTo>
                <a:cubicBezTo>
                  <a:pt x="17537" y="18372"/>
                  <a:pt x="17488" y="18363"/>
                  <a:pt x="17438" y="18355"/>
                </a:cubicBezTo>
              </a:path>
              <a:path w="794" h="374">
                <a:moveTo>
                  <a:pt x="16892" y="18405"/>
                </a:moveTo>
                <a:cubicBezTo>
                  <a:pt x="16806" y="18503"/>
                  <a:pt x="16807" y="18594"/>
                  <a:pt x="16842" y="18728"/>
                </a:cubicBezTo>
                <a:cubicBezTo>
                  <a:pt x="16933" y="18688"/>
                  <a:pt x="17229" y="18534"/>
                  <a:pt x="17090" y="18380"/>
                </a:cubicBezTo>
                <a:cubicBezTo>
                  <a:pt x="17057" y="18372"/>
                  <a:pt x="17024" y="18363"/>
                  <a:pt x="16991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products if a = 8.91, b = 3.05 and c = 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a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1.2 x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25% of 3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820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2080" y="1839960"/>
            <a:ext cx="947880" cy="1455840"/>
          </a:xfrm>
          <a:custGeom>
            <a:avLst/>
            <a:gdLst/>
            <a:ahLst/>
            <a:rect l="l" t="t" r="r" b="b"/>
            <a:pathLst>
              <a:path w="2630" h="4044">
                <a:moveTo>
                  <a:pt x="6648" y="6052"/>
                </a:moveTo>
                <a:cubicBezTo>
                  <a:pt x="6498" y="5903"/>
                  <a:pt x="6356" y="5972"/>
                  <a:pt x="6226" y="6152"/>
                </a:cubicBezTo>
                <a:cubicBezTo>
                  <a:pt x="6046" y="6402"/>
                  <a:pt x="6516" y="6468"/>
                  <a:pt x="6548" y="6697"/>
                </a:cubicBezTo>
                <a:cubicBezTo>
                  <a:pt x="6500" y="6794"/>
                  <a:pt x="6487" y="6826"/>
                  <a:pt x="6400" y="6821"/>
                </a:cubicBezTo>
                <a:cubicBezTo>
                  <a:pt x="6290" y="6589"/>
                  <a:pt x="6389" y="6421"/>
                  <a:pt x="6548" y="6201"/>
                </a:cubicBezTo>
                <a:cubicBezTo>
                  <a:pt x="6565" y="6185"/>
                  <a:pt x="6581" y="6168"/>
                  <a:pt x="6598" y="6152"/>
                </a:cubicBezTo>
              </a:path>
              <a:path w="2630" h="4044">
                <a:moveTo>
                  <a:pt x="6921" y="6672"/>
                </a:moveTo>
                <a:cubicBezTo>
                  <a:pt x="6913" y="6689"/>
                  <a:pt x="6904" y="6705"/>
                  <a:pt x="6896" y="6722"/>
                </a:cubicBezTo>
              </a:path>
              <a:path w="2630" h="4044">
                <a:moveTo>
                  <a:pt x="7441" y="6176"/>
                </a:moveTo>
                <a:cubicBezTo>
                  <a:pt x="7441" y="6064"/>
                  <a:pt x="7447" y="6032"/>
                  <a:pt x="7392" y="5978"/>
                </a:cubicBezTo>
                <a:cubicBezTo>
                  <a:pt x="7157" y="6005"/>
                  <a:pt x="7091" y="6142"/>
                  <a:pt x="7069" y="6375"/>
                </a:cubicBezTo>
                <a:cubicBezTo>
                  <a:pt x="7270" y="6318"/>
                  <a:pt x="7385" y="6030"/>
                  <a:pt x="7441" y="6226"/>
                </a:cubicBezTo>
                <a:cubicBezTo>
                  <a:pt x="7479" y="6358"/>
                  <a:pt x="7483" y="6512"/>
                  <a:pt x="7491" y="6648"/>
                </a:cubicBezTo>
              </a:path>
              <a:path w="2630" h="4044">
                <a:moveTo>
                  <a:pt x="7888" y="6077"/>
                </a:moveTo>
                <a:cubicBezTo>
                  <a:pt x="7893" y="6277"/>
                  <a:pt x="7905" y="6473"/>
                  <a:pt x="7913" y="6672"/>
                </a:cubicBezTo>
              </a:path>
              <a:path w="2630" h="4044">
                <a:moveTo>
                  <a:pt x="5730" y="7293"/>
                </a:moveTo>
                <a:cubicBezTo>
                  <a:pt x="5843" y="7383"/>
                  <a:pt x="5929" y="7506"/>
                  <a:pt x="6028" y="7615"/>
                </a:cubicBezTo>
              </a:path>
              <a:path w="2630" h="4044">
                <a:moveTo>
                  <a:pt x="6003" y="7169"/>
                </a:moveTo>
                <a:cubicBezTo>
                  <a:pt x="5908" y="7337"/>
                  <a:pt x="5821" y="7510"/>
                  <a:pt x="5755" y="7689"/>
                </a:cubicBezTo>
              </a:path>
              <a:path w="2630" h="4044">
                <a:moveTo>
                  <a:pt x="7764" y="7193"/>
                </a:moveTo>
                <a:cubicBezTo>
                  <a:pt x="7862" y="7025"/>
                  <a:pt x="7902" y="7073"/>
                  <a:pt x="8037" y="6970"/>
                </a:cubicBezTo>
                <a:cubicBezTo>
                  <a:pt x="8053" y="6954"/>
                  <a:pt x="8070" y="6937"/>
                  <a:pt x="8086" y="6921"/>
                </a:cubicBezTo>
                <a:cubicBezTo>
                  <a:pt x="8103" y="7167"/>
                  <a:pt x="8074" y="7310"/>
                  <a:pt x="7987" y="7541"/>
                </a:cubicBezTo>
              </a:path>
              <a:path w="2630" h="4044">
                <a:moveTo>
                  <a:pt x="6152" y="8086"/>
                </a:moveTo>
                <a:cubicBezTo>
                  <a:pt x="6468" y="8031"/>
                  <a:pt x="6778" y="7948"/>
                  <a:pt x="7094" y="7888"/>
                </a:cubicBezTo>
                <a:cubicBezTo>
                  <a:pt x="7398" y="7830"/>
                  <a:pt x="7706" y="7785"/>
                  <a:pt x="8012" y="7739"/>
                </a:cubicBezTo>
              </a:path>
              <a:path w="2630" h="4044">
                <a:moveTo>
                  <a:pt x="8037" y="8111"/>
                </a:moveTo>
                <a:cubicBezTo>
                  <a:pt x="8103" y="8091"/>
                  <a:pt x="8359" y="7964"/>
                  <a:pt x="8359" y="8111"/>
                </a:cubicBezTo>
                <a:cubicBezTo>
                  <a:pt x="8359" y="8255"/>
                  <a:pt x="8248" y="8408"/>
                  <a:pt x="8186" y="8533"/>
                </a:cubicBezTo>
              </a:path>
              <a:path w="2630" h="4044">
                <a:moveTo>
                  <a:pt x="7516" y="8210"/>
                </a:moveTo>
                <a:cubicBezTo>
                  <a:pt x="7589" y="8137"/>
                  <a:pt x="7611" y="8113"/>
                  <a:pt x="7689" y="8136"/>
                </a:cubicBezTo>
                <a:cubicBezTo>
                  <a:pt x="7716" y="8225"/>
                  <a:pt x="7719" y="8435"/>
                  <a:pt x="7565" y="8434"/>
                </a:cubicBezTo>
                <a:cubicBezTo>
                  <a:pt x="7565" y="8417"/>
                  <a:pt x="7565" y="8401"/>
                  <a:pt x="7565" y="8384"/>
                </a:cubicBezTo>
                <a:cubicBezTo>
                  <a:pt x="7681" y="8361"/>
                  <a:pt x="7865" y="8408"/>
                  <a:pt x="7813" y="8582"/>
                </a:cubicBezTo>
                <a:cubicBezTo>
                  <a:pt x="7731" y="8852"/>
                  <a:pt x="7374" y="8692"/>
                  <a:pt x="7218" y="8632"/>
                </a:cubicBezTo>
              </a:path>
              <a:path w="2630" h="4044">
                <a:moveTo>
                  <a:pt x="6052" y="5110"/>
                </a:moveTo>
                <a:cubicBezTo>
                  <a:pt x="6010" y="5272"/>
                  <a:pt x="5940" y="5432"/>
                  <a:pt x="5978" y="5606"/>
                </a:cubicBezTo>
                <a:cubicBezTo>
                  <a:pt x="6021" y="5713"/>
                  <a:pt x="6020" y="5748"/>
                  <a:pt x="6102" y="5755"/>
                </a:cubicBezTo>
                <a:cubicBezTo>
                  <a:pt x="6216" y="5702"/>
                  <a:pt x="6365" y="5640"/>
                  <a:pt x="6400" y="5507"/>
                </a:cubicBezTo>
                <a:cubicBezTo>
                  <a:pt x="6400" y="5482"/>
                  <a:pt x="6400" y="5457"/>
                  <a:pt x="6400" y="5432"/>
                </a:cubicBezTo>
                <a:cubicBezTo>
                  <a:pt x="6237" y="5432"/>
                  <a:pt x="6190" y="5480"/>
                  <a:pt x="6152" y="5655"/>
                </a:cubicBezTo>
                <a:cubicBezTo>
                  <a:pt x="6152" y="5688"/>
                  <a:pt x="6152" y="5722"/>
                  <a:pt x="6152" y="5755"/>
                </a:cubicBezTo>
              </a:path>
              <a:path w="2630" h="4044">
                <a:moveTo>
                  <a:pt x="5978" y="8359"/>
                </a:moveTo>
                <a:cubicBezTo>
                  <a:pt x="5958" y="8559"/>
                  <a:pt x="5893" y="8756"/>
                  <a:pt x="5854" y="8954"/>
                </a:cubicBezTo>
                <a:cubicBezTo>
                  <a:pt x="5833" y="9077"/>
                  <a:pt x="5806" y="9107"/>
                  <a:pt x="5879" y="9153"/>
                </a:cubicBezTo>
                <a:cubicBezTo>
                  <a:pt x="6104" y="9108"/>
                  <a:pt x="6169" y="9034"/>
                  <a:pt x="6251" y="8830"/>
                </a:cubicBezTo>
                <a:cubicBezTo>
                  <a:pt x="6091" y="8873"/>
                  <a:pt x="6055" y="8929"/>
                  <a:pt x="6028" y="9103"/>
                </a:cubicBezTo>
              </a:path>
              <a:path w="2630" h="4044">
                <a:moveTo>
                  <a:pt x="6573" y="8483"/>
                </a:moveTo>
                <a:cubicBezTo>
                  <a:pt x="6634" y="8463"/>
                  <a:pt x="6648" y="8465"/>
                  <a:pt x="6672" y="8434"/>
                </a:cubicBezTo>
                <a:cubicBezTo>
                  <a:pt x="6743" y="8538"/>
                  <a:pt x="6725" y="8568"/>
                  <a:pt x="6672" y="8682"/>
                </a:cubicBezTo>
                <a:cubicBezTo>
                  <a:pt x="6631" y="8770"/>
                  <a:pt x="6585" y="8844"/>
                  <a:pt x="6548" y="8930"/>
                </a:cubicBezTo>
                <a:cubicBezTo>
                  <a:pt x="6631" y="8940"/>
                  <a:pt x="6726" y="8893"/>
                  <a:pt x="6821" y="8855"/>
                </a:cubicBezTo>
              </a:path>
              <a:path w="2630" h="4044">
                <a:moveTo>
                  <a:pt x="7169" y="8830"/>
                </a:moveTo>
                <a:cubicBezTo>
                  <a:pt x="7095" y="8919"/>
                  <a:pt x="7072" y="8981"/>
                  <a:pt x="7193" y="8905"/>
                </a:cubicBezTo>
                <a:cubicBezTo>
                  <a:pt x="7144" y="8880"/>
                  <a:pt x="7127" y="8872"/>
                  <a:pt x="7119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803760"/>
            <a:ext cx="1089000" cy="393480"/>
          </a:xfrm>
          <a:custGeom>
            <a:avLst/>
            <a:gdLst/>
            <a:ahLst/>
            <a:rect l="l" t="t" r="r" b="b"/>
            <a:pathLst>
              <a:path w="3027" h="1092">
                <a:moveTo>
                  <a:pt x="3870" y="10840"/>
                </a:moveTo>
                <a:cubicBezTo>
                  <a:pt x="3850" y="10880"/>
                  <a:pt x="3841" y="10886"/>
                  <a:pt x="3845" y="10914"/>
                </a:cubicBezTo>
                <a:cubicBezTo>
                  <a:pt x="3908" y="10938"/>
                  <a:pt x="4027" y="10932"/>
                  <a:pt x="3919" y="10889"/>
                </a:cubicBezTo>
              </a:path>
              <a:path w="3027" h="1092">
                <a:moveTo>
                  <a:pt x="4341" y="10567"/>
                </a:moveTo>
                <a:cubicBezTo>
                  <a:pt x="4539" y="10633"/>
                  <a:pt x="4789" y="10725"/>
                  <a:pt x="4638" y="10988"/>
                </a:cubicBezTo>
                <a:cubicBezTo>
                  <a:pt x="4548" y="11145"/>
                  <a:pt x="4381" y="11102"/>
                  <a:pt x="4242" y="11088"/>
                </a:cubicBezTo>
                <a:cubicBezTo>
                  <a:pt x="4329" y="10925"/>
                  <a:pt x="4417" y="10948"/>
                  <a:pt x="4564" y="11063"/>
                </a:cubicBezTo>
                <a:cubicBezTo>
                  <a:pt x="4589" y="11088"/>
                  <a:pt x="4613" y="11112"/>
                  <a:pt x="4638" y="11137"/>
                </a:cubicBezTo>
              </a:path>
              <a:path w="3027" h="1092">
                <a:moveTo>
                  <a:pt x="5110" y="10641"/>
                </a:moveTo>
                <a:cubicBezTo>
                  <a:pt x="4980" y="10690"/>
                  <a:pt x="4949" y="10756"/>
                  <a:pt x="4887" y="10889"/>
                </a:cubicBezTo>
                <a:cubicBezTo>
                  <a:pt x="5014" y="10867"/>
                  <a:pt x="5097" y="10827"/>
                  <a:pt x="5209" y="10939"/>
                </a:cubicBezTo>
                <a:cubicBezTo>
                  <a:pt x="5403" y="11133"/>
                  <a:pt x="5027" y="11154"/>
                  <a:pt x="4936" y="11162"/>
                </a:cubicBezTo>
              </a:path>
              <a:path w="3027" h="1092">
                <a:moveTo>
                  <a:pt x="6524" y="11112"/>
                </a:moveTo>
                <a:cubicBezTo>
                  <a:pt x="6639" y="11262"/>
                  <a:pt x="6761" y="11406"/>
                  <a:pt x="6871" y="11559"/>
                </a:cubicBezTo>
              </a:path>
              <a:path w="3027" h="1092">
                <a:moveTo>
                  <a:pt x="6772" y="11137"/>
                </a:moveTo>
                <a:cubicBezTo>
                  <a:pt x="6702" y="11315"/>
                  <a:pt x="6637" y="11491"/>
                  <a:pt x="6548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660680"/>
            <a:ext cx="1384560" cy="2268360"/>
          </a:xfrm>
          <a:custGeom>
            <a:avLst/>
            <a:gdLst/>
            <a:ahLst/>
            <a:rect l="l" t="t" r="r" b="b"/>
            <a:pathLst>
              <a:path w="3845" h="6301">
                <a:moveTo>
                  <a:pt x="20414" y="5507"/>
                </a:moveTo>
                <a:cubicBezTo>
                  <a:pt x="20508" y="5441"/>
                  <a:pt x="20579" y="5387"/>
                  <a:pt x="20687" y="5358"/>
                </a:cubicBezTo>
                <a:cubicBezTo>
                  <a:pt x="20670" y="5461"/>
                  <a:pt x="20595" y="5762"/>
                  <a:pt x="20439" y="5755"/>
                </a:cubicBezTo>
                <a:cubicBezTo>
                  <a:pt x="20256" y="5747"/>
                  <a:pt x="20772" y="5905"/>
                  <a:pt x="20662" y="6052"/>
                </a:cubicBezTo>
                <a:cubicBezTo>
                  <a:pt x="20510" y="6254"/>
                  <a:pt x="20306" y="6208"/>
                  <a:pt x="20265" y="6003"/>
                </a:cubicBezTo>
              </a:path>
              <a:path w="3845" h="6301">
                <a:moveTo>
                  <a:pt x="21183" y="5978"/>
                </a:moveTo>
                <a:lnTo>
                  <a:pt x="21183" y="5978"/>
                </a:lnTo>
              </a:path>
              <a:path w="3845" h="6301">
                <a:moveTo>
                  <a:pt x="21555" y="5383"/>
                </a:moveTo>
                <a:cubicBezTo>
                  <a:pt x="21422" y="5635"/>
                  <a:pt x="21367" y="5735"/>
                  <a:pt x="21456" y="6003"/>
                </a:cubicBezTo>
                <a:cubicBezTo>
                  <a:pt x="21660" y="5984"/>
                  <a:pt x="22118" y="5932"/>
                  <a:pt x="21927" y="5581"/>
                </a:cubicBezTo>
                <a:cubicBezTo>
                  <a:pt x="21878" y="5540"/>
                  <a:pt x="21828" y="5498"/>
                  <a:pt x="21779" y="5457"/>
                </a:cubicBezTo>
              </a:path>
              <a:path w="3845" h="6301">
                <a:moveTo>
                  <a:pt x="22572" y="5184"/>
                </a:moveTo>
                <a:cubicBezTo>
                  <a:pt x="22502" y="5194"/>
                  <a:pt x="22308" y="5185"/>
                  <a:pt x="22275" y="5234"/>
                </a:cubicBezTo>
                <a:cubicBezTo>
                  <a:pt x="22205" y="5337"/>
                  <a:pt x="22225" y="5441"/>
                  <a:pt x="22225" y="5556"/>
                </a:cubicBezTo>
                <a:cubicBezTo>
                  <a:pt x="22376" y="5500"/>
                  <a:pt x="22685" y="5299"/>
                  <a:pt x="22746" y="5581"/>
                </a:cubicBezTo>
                <a:cubicBezTo>
                  <a:pt x="22796" y="5813"/>
                  <a:pt x="22616" y="5831"/>
                  <a:pt x="22473" y="5879"/>
                </a:cubicBezTo>
              </a:path>
              <a:path w="3845" h="6301">
                <a:moveTo>
                  <a:pt x="19918" y="6499"/>
                </a:moveTo>
                <a:cubicBezTo>
                  <a:pt x="20014" y="6657"/>
                  <a:pt x="20093" y="6824"/>
                  <a:pt x="20166" y="6995"/>
                </a:cubicBezTo>
              </a:path>
              <a:path w="3845" h="6301">
                <a:moveTo>
                  <a:pt x="20241" y="6548"/>
                </a:moveTo>
                <a:cubicBezTo>
                  <a:pt x="20146" y="6726"/>
                  <a:pt x="20048" y="6897"/>
                  <a:pt x="19943" y="7069"/>
                </a:cubicBezTo>
              </a:path>
              <a:path w="3845" h="6301">
                <a:moveTo>
                  <a:pt x="21654" y="6449"/>
                </a:moveTo>
                <a:cubicBezTo>
                  <a:pt x="21707" y="6608"/>
                  <a:pt x="21688" y="6731"/>
                  <a:pt x="21679" y="6896"/>
                </a:cubicBezTo>
              </a:path>
              <a:path w="3845" h="6301">
                <a:moveTo>
                  <a:pt x="22250" y="6400"/>
                </a:moveTo>
                <a:cubicBezTo>
                  <a:pt x="22417" y="6301"/>
                  <a:pt x="22608" y="6323"/>
                  <a:pt x="22696" y="6548"/>
                </a:cubicBezTo>
                <a:cubicBezTo>
                  <a:pt x="22789" y="6785"/>
                  <a:pt x="22567" y="6842"/>
                  <a:pt x="22399" y="6796"/>
                </a:cubicBezTo>
                <a:cubicBezTo>
                  <a:pt x="22391" y="6788"/>
                  <a:pt x="22382" y="6780"/>
                  <a:pt x="22374" y="6772"/>
                </a:cubicBezTo>
                <a:cubicBezTo>
                  <a:pt x="22456" y="6671"/>
                  <a:pt x="22544" y="6579"/>
                  <a:pt x="22671" y="6697"/>
                </a:cubicBezTo>
                <a:cubicBezTo>
                  <a:pt x="22731" y="6776"/>
                  <a:pt x="22731" y="6809"/>
                  <a:pt x="22796" y="6796"/>
                </a:cubicBezTo>
              </a:path>
              <a:path w="3845" h="6301">
                <a:moveTo>
                  <a:pt x="22027" y="6772"/>
                </a:moveTo>
                <a:cubicBezTo>
                  <a:pt x="22058" y="6803"/>
                  <a:pt x="22225" y="6872"/>
                  <a:pt x="22126" y="6796"/>
                </a:cubicBezTo>
              </a:path>
              <a:path w="3845" h="6301">
                <a:moveTo>
                  <a:pt x="19844" y="7565"/>
                </a:moveTo>
                <a:cubicBezTo>
                  <a:pt x="20263" y="7593"/>
                  <a:pt x="20785" y="7421"/>
                  <a:pt x="21208" y="7367"/>
                </a:cubicBezTo>
                <a:cubicBezTo>
                  <a:pt x="21699" y="7304"/>
                  <a:pt x="22201" y="7251"/>
                  <a:pt x="22696" y="7218"/>
                </a:cubicBezTo>
              </a:path>
              <a:path w="3845" h="6301">
                <a:moveTo>
                  <a:pt x="22944" y="7640"/>
                </a:moveTo>
                <a:cubicBezTo>
                  <a:pt x="22737" y="7736"/>
                  <a:pt x="22648" y="7888"/>
                  <a:pt x="22597" y="8111"/>
                </a:cubicBezTo>
                <a:cubicBezTo>
                  <a:pt x="22797" y="8196"/>
                  <a:pt x="23104" y="8194"/>
                  <a:pt x="23093" y="7863"/>
                </a:cubicBezTo>
                <a:cubicBezTo>
                  <a:pt x="23068" y="7813"/>
                  <a:pt x="23044" y="7764"/>
                  <a:pt x="23019" y="7714"/>
                </a:cubicBezTo>
              </a:path>
              <a:path w="3845" h="6301">
                <a:moveTo>
                  <a:pt x="21580" y="4614"/>
                </a:moveTo>
                <a:cubicBezTo>
                  <a:pt x="21511" y="4733"/>
                  <a:pt x="21543" y="4759"/>
                  <a:pt x="21555" y="4911"/>
                </a:cubicBezTo>
              </a:path>
              <a:path w="3845" h="6301">
                <a:moveTo>
                  <a:pt x="21803" y="7689"/>
                </a:moveTo>
                <a:cubicBezTo>
                  <a:pt x="21803" y="7924"/>
                  <a:pt x="21826" y="8129"/>
                  <a:pt x="21853" y="8359"/>
                </a:cubicBezTo>
                <a:cubicBezTo>
                  <a:pt x="21853" y="8376"/>
                  <a:pt x="21853" y="8392"/>
                  <a:pt x="21853" y="8409"/>
                </a:cubicBezTo>
              </a:path>
              <a:path w="3845" h="6301">
                <a:moveTo>
                  <a:pt x="20662" y="7813"/>
                </a:moveTo>
                <a:cubicBezTo>
                  <a:pt x="20578" y="8088"/>
                  <a:pt x="20496" y="8333"/>
                  <a:pt x="20588" y="8607"/>
                </a:cubicBezTo>
                <a:cubicBezTo>
                  <a:pt x="20890" y="8618"/>
                  <a:pt x="21002" y="8596"/>
                  <a:pt x="21158" y="8334"/>
                </a:cubicBezTo>
                <a:cubicBezTo>
                  <a:pt x="20914" y="8248"/>
                  <a:pt x="20873" y="8400"/>
                  <a:pt x="20762" y="8607"/>
                </a:cubicBezTo>
              </a:path>
              <a:path w="3845" h="6301">
                <a:moveTo>
                  <a:pt x="22845" y="8632"/>
                </a:moveTo>
                <a:cubicBezTo>
                  <a:pt x="22718" y="8823"/>
                  <a:pt x="22647" y="8955"/>
                  <a:pt x="22647" y="9178"/>
                </a:cubicBezTo>
                <a:cubicBezTo>
                  <a:pt x="22814" y="9189"/>
                  <a:pt x="23029" y="9132"/>
                  <a:pt x="23019" y="8905"/>
                </a:cubicBezTo>
                <a:cubicBezTo>
                  <a:pt x="22972" y="8788"/>
                  <a:pt x="22962" y="8750"/>
                  <a:pt x="22870" y="8731"/>
                </a:cubicBezTo>
              </a:path>
              <a:path w="3845" h="6301">
                <a:moveTo>
                  <a:pt x="22225" y="8806"/>
                </a:moveTo>
                <a:cubicBezTo>
                  <a:pt x="22049" y="8806"/>
                  <a:pt x="21965" y="8779"/>
                  <a:pt x="21878" y="8954"/>
                </a:cubicBezTo>
                <a:cubicBezTo>
                  <a:pt x="21870" y="8987"/>
                  <a:pt x="21861" y="9021"/>
                  <a:pt x="21853" y="9054"/>
                </a:cubicBezTo>
                <a:cubicBezTo>
                  <a:pt x="21972" y="9078"/>
                  <a:pt x="22137" y="9004"/>
                  <a:pt x="22250" y="9103"/>
                </a:cubicBezTo>
                <a:cubicBezTo>
                  <a:pt x="22266" y="9136"/>
                  <a:pt x="22283" y="9170"/>
                  <a:pt x="22299" y="9203"/>
                </a:cubicBezTo>
                <a:cubicBezTo>
                  <a:pt x="22172" y="9402"/>
                  <a:pt x="22019" y="9354"/>
                  <a:pt x="21779" y="9327"/>
                </a:cubicBezTo>
              </a:path>
              <a:path w="3845" h="6301">
                <a:moveTo>
                  <a:pt x="21183" y="8930"/>
                </a:moveTo>
                <a:cubicBezTo>
                  <a:pt x="21070" y="9042"/>
                  <a:pt x="20872" y="9213"/>
                  <a:pt x="20910" y="9401"/>
                </a:cubicBezTo>
                <a:cubicBezTo>
                  <a:pt x="20935" y="9426"/>
                  <a:pt x="20960" y="9450"/>
                  <a:pt x="20985" y="9475"/>
                </a:cubicBezTo>
                <a:cubicBezTo>
                  <a:pt x="21145" y="9420"/>
                  <a:pt x="21467" y="9241"/>
                  <a:pt x="21208" y="9029"/>
                </a:cubicBezTo>
                <a:cubicBezTo>
                  <a:pt x="21167" y="9021"/>
                  <a:pt x="21125" y="9012"/>
                  <a:pt x="21084" y="9004"/>
                </a:cubicBezTo>
              </a:path>
              <a:path w="3845" h="6301">
                <a:moveTo>
                  <a:pt x="20042" y="8954"/>
                </a:moveTo>
                <a:cubicBezTo>
                  <a:pt x="20108" y="8940"/>
                  <a:pt x="20331" y="8811"/>
                  <a:pt x="20290" y="9004"/>
                </a:cubicBezTo>
                <a:cubicBezTo>
                  <a:pt x="20216" y="9128"/>
                  <a:pt x="20191" y="9170"/>
                  <a:pt x="20092" y="9203"/>
                </a:cubicBezTo>
                <a:cubicBezTo>
                  <a:pt x="20075" y="9211"/>
                  <a:pt x="20059" y="9219"/>
                  <a:pt x="20042" y="9227"/>
                </a:cubicBezTo>
                <a:cubicBezTo>
                  <a:pt x="20259" y="9164"/>
                  <a:pt x="20243" y="9131"/>
                  <a:pt x="20389" y="9302"/>
                </a:cubicBezTo>
                <a:cubicBezTo>
                  <a:pt x="20273" y="9536"/>
                  <a:pt x="20151" y="9542"/>
                  <a:pt x="19893" y="9500"/>
                </a:cubicBezTo>
              </a:path>
              <a:path w="3845" h="6301">
                <a:moveTo>
                  <a:pt x="19472" y="9971"/>
                </a:moveTo>
                <a:cubicBezTo>
                  <a:pt x="19977" y="9957"/>
                  <a:pt x="20463" y="9893"/>
                  <a:pt x="20960" y="9798"/>
                </a:cubicBezTo>
                <a:cubicBezTo>
                  <a:pt x="21440" y="9706"/>
                  <a:pt x="21916" y="9620"/>
                  <a:pt x="22399" y="9550"/>
                </a:cubicBezTo>
              </a:path>
              <a:path w="3845" h="6301">
                <a:moveTo>
                  <a:pt x="23143" y="9922"/>
                </a:moveTo>
                <a:cubicBezTo>
                  <a:pt x="22979" y="10016"/>
                  <a:pt x="22759" y="10191"/>
                  <a:pt x="22796" y="10418"/>
                </a:cubicBezTo>
                <a:cubicBezTo>
                  <a:pt x="22821" y="10443"/>
                  <a:pt x="22845" y="10467"/>
                  <a:pt x="22870" y="10492"/>
                </a:cubicBezTo>
                <a:cubicBezTo>
                  <a:pt x="23159" y="10361"/>
                  <a:pt x="23260" y="10316"/>
                  <a:pt x="23093" y="10046"/>
                </a:cubicBezTo>
              </a:path>
              <a:path w="3845" h="6301">
                <a:moveTo>
                  <a:pt x="22324" y="9947"/>
                </a:moveTo>
                <a:cubicBezTo>
                  <a:pt x="22278" y="10149"/>
                  <a:pt x="22215" y="10317"/>
                  <a:pt x="22225" y="10517"/>
                </a:cubicBezTo>
                <a:cubicBezTo>
                  <a:pt x="22360" y="10526"/>
                  <a:pt x="22623" y="10482"/>
                  <a:pt x="22597" y="10269"/>
                </a:cubicBezTo>
                <a:cubicBezTo>
                  <a:pt x="22589" y="10203"/>
                  <a:pt x="22364" y="10381"/>
                  <a:pt x="22349" y="10393"/>
                </a:cubicBezTo>
              </a:path>
              <a:path w="3845" h="6301">
                <a:moveTo>
                  <a:pt x="22324" y="9575"/>
                </a:moveTo>
                <a:cubicBezTo>
                  <a:pt x="22638" y="9535"/>
                  <a:pt x="22949" y="9429"/>
                  <a:pt x="23267" y="9376"/>
                </a:cubicBezTo>
                <a:cubicBezTo>
                  <a:pt x="23283" y="9376"/>
                  <a:pt x="23300" y="9376"/>
                  <a:pt x="23316" y="9376"/>
                </a:cubicBezTo>
              </a:path>
              <a:path w="3845" h="6301">
                <a:moveTo>
                  <a:pt x="21208" y="9996"/>
                </a:moveTo>
                <a:cubicBezTo>
                  <a:pt x="21190" y="10187"/>
                  <a:pt x="21124" y="10354"/>
                  <a:pt x="21134" y="10542"/>
                </a:cubicBezTo>
                <a:cubicBezTo>
                  <a:pt x="21326" y="10560"/>
                  <a:pt x="21573" y="10552"/>
                  <a:pt x="21654" y="10319"/>
                </a:cubicBezTo>
                <a:cubicBezTo>
                  <a:pt x="21646" y="10294"/>
                  <a:pt x="21638" y="10269"/>
                  <a:pt x="21630" y="10244"/>
                </a:cubicBezTo>
                <a:cubicBezTo>
                  <a:pt x="21429" y="10291"/>
                  <a:pt x="21374" y="10357"/>
                  <a:pt x="21332" y="10567"/>
                </a:cubicBezTo>
              </a:path>
              <a:path w="3845" h="6301">
                <a:moveTo>
                  <a:pt x="20315" y="10368"/>
                </a:moveTo>
                <a:cubicBezTo>
                  <a:pt x="20354" y="10349"/>
                  <a:pt x="20674" y="10159"/>
                  <a:pt x="20662" y="10319"/>
                </a:cubicBezTo>
                <a:cubicBezTo>
                  <a:pt x="20650" y="10481"/>
                  <a:pt x="20405" y="10500"/>
                  <a:pt x="20290" y="10542"/>
                </a:cubicBezTo>
                <a:cubicBezTo>
                  <a:pt x="20539" y="10459"/>
                  <a:pt x="20598" y="10441"/>
                  <a:pt x="20737" y="10666"/>
                </a:cubicBezTo>
                <a:cubicBezTo>
                  <a:pt x="20548" y="10909"/>
                  <a:pt x="20373" y="10901"/>
                  <a:pt x="20067" y="10864"/>
                </a:cubicBezTo>
              </a:path>
              <a:path w="3845" h="6301">
                <a:moveTo>
                  <a:pt x="21059" y="10840"/>
                </a:moveTo>
                <a:cubicBezTo>
                  <a:pt x="20998" y="10817"/>
                  <a:pt x="20856" y="10865"/>
                  <a:pt x="20960" y="10914"/>
                </a:cubicBezTo>
                <a:cubicBezTo>
                  <a:pt x="21080" y="10971"/>
                  <a:pt x="21120" y="10838"/>
                  <a:pt x="21059" y="10790"/>
                </a:cubicBezTo>
                <a:cubicBezTo>
                  <a:pt x="20974" y="10833"/>
                  <a:pt x="21084" y="10959"/>
                  <a:pt x="21084" y="10864"/>
                </a:cubicBezTo>
                <a:cubicBezTo>
                  <a:pt x="21076" y="10839"/>
                  <a:pt x="21067" y="10815"/>
                  <a:pt x="21059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88120" y="4232160"/>
            <a:ext cx="1090800" cy="928800"/>
          </a:xfrm>
          <a:custGeom>
            <a:avLst/>
            <a:gdLst/>
            <a:ahLst/>
            <a:rect l="l" t="t" r="r" b="b"/>
            <a:pathLst>
              <a:path w="3027" h="2581">
                <a:moveTo>
                  <a:pt x="20513" y="12129"/>
                </a:moveTo>
                <a:cubicBezTo>
                  <a:pt x="20513" y="12330"/>
                  <a:pt x="20518" y="12525"/>
                  <a:pt x="20538" y="12725"/>
                </a:cubicBezTo>
              </a:path>
              <a:path w="3027" h="2581">
                <a:moveTo>
                  <a:pt x="20811" y="12576"/>
                </a:moveTo>
                <a:cubicBezTo>
                  <a:pt x="20828" y="12568"/>
                  <a:pt x="20844" y="12559"/>
                  <a:pt x="20861" y="12551"/>
                </a:cubicBezTo>
              </a:path>
              <a:path w="3027" h="2581">
                <a:moveTo>
                  <a:pt x="21307" y="12129"/>
                </a:moveTo>
                <a:cubicBezTo>
                  <a:pt x="21197" y="12089"/>
                  <a:pt x="21170" y="12128"/>
                  <a:pt x="21084" y="12204"/>
                </a:cubicBezTo>
                <a:cubicBezTo>
                  <a:pt x="21195" y="12301"/>
                  <a:pt x="21313" y="12387"/>
                  <a:pt x="21431" y="12477"/>
                </a:cubicBezTo>
                <a:cubicBezTo>
                  <a:pt x="21398" y="12506"/>
                  <a:pt x="21013" y="12678"/>
                  <a:pt x="21084" y="12477"/>
                </a:cubicBezTo>
                <a:cubicBezTo>
                  <a:pt x="21195" y="12322"/>
                  <a:pt x="21224" y="12284"/>
                  <a:pt x="21282" y="12179"/>
                </a:cubicBezTo>
              </a:path>
              <a:path w="3027" h="2581">
                <a:moveTo>
                  <a:pt x="21530" y="12204"/>
                </a:moveTo>
                <a:cubicBezTo>
                  <a:pt x="21646" y="12175"/>
                  <a:pt x="21800" y="12161"/>
                  <a:pt x="21704" y="12353"/>
                </a:cubicBezTo>
                <a:cubicBezTo>
                  <a:pt x="21671" y="12394"/>
                  <a:pt x="21638" y="12436"/>
                  <a:pt x="21605" y="12477"/>
                </a:cubicBezTo>
                <a:cubicBezTo>
                  <a:pt x="21491" y="12589"/>
                  <a:pt x="21774" y="12526"/>
                  <a:pt x="21853" y="12526"/>
                </a:cubicBezTo>
              </a:path>
              <a:path w="3027" h="2581">
                <a:moveTo>
                  <a:pt x="22027" y="12105"/>
                </a:moveTo>
                <a:cubicBezTo>
                  <a:pt x="21941" y="12204"/>
                  <a:pt x="21827" y="12325"/>
                  <a:pt x="21977" y="12427"/>
                </a:cubicBezTo>
                <a:cubicBezTo>
                  <a:pt x="22101" y="12511"/>
                  <a:pt x="22364" y="12364"/>
                  <a:pt x="22250" y="12204"/>
                </a:cubicBezTo>
                <a:cubicBezTo>
                  <a:pt x="22217" y="12187"/>
                  <a:pt x="22184" y="12171"/>
                  <a:pt x="22151" y="12154"/>
                </a:cubicBezTo>
              </a:path>
              <a:path w="3027" h="2581">
                <a:moveTo>
                  <a:pt x="22473" y="12055"/>
                </a:moveTo>
                <a:cubicBezTo>
                  <a:pt x="22548" y="12194"/>
                  <a:pt x="22560" y="12362"/>
                  <a:pt x="22597" y="12526"/>
                </a:cubicBezTo>
              </a:path>
              <a:path w="3027" h="2581">
                <a:moveTo>
                  <a:pt x="20017" y="13097"/>
                </a:moveTo>
                <a:cubicBezTo>
                  <a:pt x="20095" y="13240"/>
                  <a:pt x="20148" y="13362"/>
                  <a:pt x="20191" y="13519"/>
                </a:cubicBezTo>
              </a:path>
              <a:path w="3027" h="2581">
                <a:moveTo>
                  <a:pt x="20166" y="13221"/>
                </a:moveTo>
                <a:cubicBezTo>
                  <a:pt x="20123" y="13396"/>
                  <a:pt x="20115" y="13441"/>
                  <a:pt x="20067" y="13543"/>
                </a:cubicBezTo>
              </a:path>
              <a:path w="3027" h="2581">
                <a:moveTo>
                  <a:pt x="22473" y="12774"/>
                </a:moveTo>
                <a:cubicBezTo>
                  <a:pt x="22563" y="12768"/>
                  <a:pt x="22637" y="12756"/>
                  <a:pt x="22721" y="12725"/>
                </a:cubicBezTo>
                <a:cubicBezTo>
                  <a:pt x="22706" y="12841"/>
                  <a:pt x="22664" y="12936"/>
                  <a:pt x="22647" y="13047"/>
                </a:cubicBezTo>
              </a:path>
              <a:path w="3027" h="2581">
                <a:moveTo>
                  <a:pt x="20265" y="13841"/>
                </a:moveTo>
                <a:cubicBezTo>
                  <a:pt x="20738" y="13678"/>
                  <a:pt x="21218" y="13563"/>
                  <a:pt x="21704" y="13444"/>
                </a:cubicBezTo>
                <a:cubicBezTo>
                  <a:pt x="22051" y="13359"/>
                  <a:pt x="22398" y="13275"/>
                  <a:pt x="22746" y="13196"/>
                </a:cubicBezTo>
              </a:path>
              <a:path w="3027" h="2581">
                <a:moveTo>
                  <a:pt x="22771" y="13717"/>
                </a:moveTo>
                <a:cubicBezTo>
                  <a:pt x="22856" y="13704"/>
                  <a:pt x="22914" y="13682"/>
                  <a:pt x="22994" y="13643"/>
                </a:cubicBezTo>
                <a:cubicBezTo>
                  <a:pt x="22968" y="13779"/>
                  <a:pt x="22951" y="13866"/>
                  <a:pt x="22895" y="13990"/>
                </a:cubicBezTo>
              </a:path>
              <a:path w="3027" h="2581">
                <a:moveTo>
                  <a:pt x="22399" y="13692"/>
                </a:moveTo>
                <a:cubicBezTo>
                  <a:pt x="22325" y="13783"/>
                  <a:pt x="22289" y="13855"/>
                  <a:pt x="22250" y="13965"/>
                </a:cubicBezTo>
                <a:cubicBezTo>
                  <a:pt x="22321" y="13972"/>
                  <a:pt x="22574" y="13924"/>
                  <a:pt x="22473" y="13767"/>
                </a:cubicBezTo>
                <a:cubicBezTo>
                  <a:pt x="22448" y="13759"/>
                  <a:pt x="22424" y="13750"/>
                  <a:pt x="22399" y="13742"/>
                </a:cubicBezTo>
              </a:path>
              <a:path w="3027" h="2581">
                <a:moveTo>
                  <a:pt x="21878" y="13791"/>
                </a:moveTo>
                <a:cubicBezTo>
                  <a:pt x="21852" y="13947"/>
                  <a:pt x="21882" y="13925"/>
                  <a:pt x="22027" y="13915"/>
                </a:cubicBezTo>
              </a:path>
              <a:path w="3027" h="2581">
                <a:moveTo>
                  <a:pt x="22051" y="13692"/>
                </a:moveTo>
                <a:cubicBezTo>
                  <a:pt x="22026" y="13834"/>
                  <a:pt x="21995" y="13973"/>
                  <a:pt x="21977" y="14114"/>
                </a:cubicBezTo>
              </a:path>
              <a:path w="3027" h="2581">
                <a:moveTo>
                  <a:pt x="21034" y="11757"/>
                </a:moveTo>
                <a:cubicBezTo>
                  <a:pt x="21010" y="11856"/>
                  <a:pt x="21002" y="11888"/>
                  <a:pt x="21010" y="11956"/>
                </a:cubicBezTo>
              </a:path>
              <a:path w="3027" h="2581">
                <a:moveTo>
                  <a:pt x="21282" y="13866"/>
                </a:moveTo>
                <a:cubicBezTo>
                  <a:pt x="21366" y="13842"/>
                  <a:pt x="21443" y="13824"/>
                  <a:pt x="21530" y="13816"/>
                </a:cubicBezTo>
                <a:cubicBezTo>
                  <a:pt x="21522" y="13919"/>
                  <a:pt x="21492" y="14013"/>
                  <a:pt x="21481" y="14114"/>
                </a:cubicBezTo>
              </a:path>
              <a:path w="3027" h="2581">
                <a:moveTo>
                  <a:pt x="20092" y="11782"/>
                </a:moveTo>
                <a:cubicBezTo>
                  <a:pt x="19993" y="11782"/>
                  <a:pt x="20008" y="11817"/>
                  <a:pt x="19968" y="11906"/>
                </a:cubicBezTo>
                <a:cubicBezTo>
                  <a:pt x="20016" y="11921"/>
                  <a:pt x="20168" y="11953"/>
                  <a:pt x="20117" y="12055"/>
                </a:cubicBezTo>
                <a:cubicBezTo>
                  <a:pt x="20100" y="12072"/>
                  <a:pt x="20084" y="12088"/>
                  <a:pt x="20067" y="12105"/>
                </a:cubicBezTo>
              </a:path>
              <a:path w="3027" h="2581">
                <a:moveTo>
                  <a:pt x="20489" y="13990"/>
                </a:moveTo>
                <a:cubicBezTo>
                  <a:pt x="20435" y="14126"/>
                  <a:pt x="20423" y="14193"/>
                  <a:pt x="20439" y="14337"/>
                </a:cubicBezTo>
              </a:path>
              <a:path w="3027" h="2581">
                <a:moveTo>
                  <a:pt x="20811" y="13965"/>
                </a:moveTo>
                <a:cubicBezTo>
                  <a:pt x="20868" y="13927"/>
                  <a:pt x="20871" y="13911"/>
                  <a:pt x="20910" y="13915"/>
                </a:cubicBezTo>
                <a:cubicBezTo>
                  <a:pt x="20932" y="14013"/>
                  <a:pt x="20900" y="14057"/>
                  <a:pt x="20836" y="14139"/>
                </a:cubicBezTo>
                <a:cubicBezTo>
                  <a:pt x="20761" y="14235"/>
                  <a:pt x="21046" y="14150"/>
                  <a:pt x="21084" y="14139"/>
                </a:cubicBezTo>
              </a:path>
              <a:path w="3027" h="2581">
                <a:moveTo>
                  <a:pt x="21357" y="14312"/>
                </a:moveTo>
                <a:cubicBezTo>
                  <a:pt x="21234" y="14327"/>
                  <a:pt x="21287" y="14278"/>
                  <a:pt x="21258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84720" y="3438360"/>
            <a:ext cx="857160" cy="1857600"/>
          </a:xfrm>
          <a:custGeom>
            <a:avLst/>
            <a:gdLst/>
            <a:ahLst/>
            <a:rect l="l" t="t" r="r" b="b"/>
            <a:pathLst>
              <a:path w="2382" h="5160">
                <a:moveTo>
                  <a:pt x="10220" y="10740"/>
                </a:moveTo>
                <a:cubicBezTo>
                  <a:pt x="10133" y="10844"/>
                  <a:pt x="10067" y="10899"/>
                  <a:pt x="10195" y="10914"/>
                </a:cubicBezTo>
                <a:cubicBezTo>
                  <a:pt x="10152" y="10785"/>
                  <a:pt x="10092" y="10939"/>
                  <a:pt x="10170" y="10939"/>
                </a:cubicBezTo>
                <a:cubicBezTo>
                  <a:pt x="10195" y="10931"/>
                  <a:pt x="10219" y="10922"/>
                  <a:pt x="10244" y="10914"/>
                </a:cubicBezTo>
              </a:path>
              <a:path w="2382" h="5160">
                <a:moveTo>
                  <a:pt x="10666" y="10592"/>
                </a:moveTo>
                <a:cubicBezTo>
                  <a:pt x="10841" y="10605"/>
                  <a:pt x="10972" y="10777"/>
                  <a:pt x="10815" y="10964"/>
                </a:cubicBezTo>
                <a:cubicBezTo>
                  <a:pt x="10688" y="11048"/>
                  <a:pt x="10665" y="11081"/>
                  <a:pt x="10567" y="11063"/>
                </a:cubicBezTo>
                <a:cubicBezTo>
                  <a:pt x="10566" y="10871"/>
                  <a:pt x="10689" y="10881"/>
                  <a:pt x="10840" y="10988"/>
                </a:cubicBezTo>
                <a:cubicBezTo>
                  <a:pt x="10856" y="11005"/>
                  <a:pt x="10873" y="11021"/>
                  <a:pt x="10889" y="11038"/>
                </a:cubicBezTo>
              </a:path>
              <a:path w="2382" h="5160">
                <a:moveTo>
                  <a:pt x="11361" y="10567"/>
                </a:moveTo>
                <a:cubicBezTo>
                  <a:pt x="11172" y="10579"/>
                  <a:pt x="11137" y="10588"/>
                  <a:pt x="11112" y="10790"/>
                </a:cubicBezTo>
                <a:cubicBezTo>
                  <a:pt x="11112" y="10815"/>
                  <a:pt x="11112" y="10839"/>
                  <a:pt x="11112" y="10864"/>
                </a:cubicBezTo>
                <a:cubicBezTo>
                  <a:pt x="11252" y="10829"/>
                  <a:pt x="11353" y="10703"/>
                  <a:pt x="11460" y="10840"/>
                </a:cubicBezTo>
                <a:cubicBezTo>
                  <a:pt x="11644" y="11075"/>
                  <a:pt x="11365" y="11100"/>
                  <a:pt x="11212" y="11112"/>
                </a:cubicBezTo>
              </a:path>
              <a:path w="2382" h="5160">
                <a:moveTo>
                  <a:pt x="9401" y="11733"/>
                </a:moveTo>
                <a:cubicBezTo>
                  <a:pt x="9444" y="11881"/>
                  <a:pt x="9454" y="11913"/>
                  <a:pt x="9475" y="12005"/>
                </a:cubicBezTo>
              </a:path>
              <a:path w="2382" h="5160">
                <a:moveTo>
                  <a:pt x="9624" y="11584"/>
                </a:moveTo>
                <a:cubicBezTo>
                  <a:pt x="9501" y="11732"/>
                  <a:pt x="9461" y="11779"/>
                  <a:pt x="9426" y="11906"/>
                </a:cubicBezTo>
              </a:path>
              <a:path w="2382" h="5160">
                <a:moveTo>
                  <a:pt x="10641" y="11584"/>
                </a:moveTo>
                <a:cubicBezTo>
                  <a:pt x="10527" y="11514"/>
                  <a:pt x="10773" y="11498"/>
                  <a:pt x="10790" y="11584"/>
                </a:cubicBezTo>
                <a:cubicBezTo>
                  <a:pt x="10814" y="11704"/>
                  <a:pt x="10636" y="11731"/>
                  <a:pt x="10567" y="11757"/>
                </a:cubicBezTo>
                <a:cubicBezTo>
                  <a:pt x="10790" y="11723"/>
                  <a:pt x="10784" y="11673"/>
                  <a:pt x="10889" y="11857"/>
                </a:cubicBezTo>
                <a:cubicBezTo>
                  <a:pt x="10732" y="11978"/>
                  <a:pt x="10729" y="11997"/>
                  <a:pt x="10542" y="11956"/>
                </a:cubicBezTo>
              </a:path>
              <a:path w="2382" h="5160">
                <a:moveTo>
                  <a:pt x="11212" y="11485"/>
                </a:moveTo>
                <a:cubicBezTo>
                  <a:pt x="11193" y="11622"/>
                  <a:pt x="11106" y="11919"/>
                  <a:pt x="11311" y="11956"/>
                </a:cubicBezTo>
                <a:cubicBezTo>
                  <a:pt x="11476" y="11986"/>
                  <a:pt x="11469" y="11826"/>
                  <a:pt x="11485" y="11733"/>
                </a:cubicBezTo>
                <a:cubicBezTo>
                  <a:pt x="11346" y="11756"/>
                  <a:pt x="11356" y="11801"/>
                  <a:pt x="11286" y="11956"/>
                </a:cubicBezTo>
              </a:path>
              <a:path w="2382" h="5160">
                <a:moveTo>
                  <a:pt x="9823" y="12353"/>
                </a:moveTo>
                <a:cubicBezTo>
                  <a:pt x="10331" y="12251"/>
                  <a:pt x="10816" y="12202"/>
                  <a:pt x="11336" y="12229"/>
                </a:cubicBezTo>
                <a:cubicBezTo>
                  <a:pt x="11394" y="12237"/>
                  <a:pt x="11451" y="12246"/>
                  <a:pt x="11509" y="12254"/>
                </a:cubicBezTo>
              </a:path>
              <a:path w="2382" h="5160">
                <a:moveTo>
                  <a:pt x="11485" y="12427"/>
                </a:moveTo>
                <a:cubicBezTo>
                  <a:pt x="11366" y="12563"/>
                  <a:pt x="11315" y="12652"/>
                  <a:pt x="11286" y="12824"/>
                </a:cubicBezTo>
                <a:cubicBezTo>
                  <a:pt x="11361" y="12824"/>
                  <a:pt x="11894" y="12690"/>
                  <a:pt x="11609" y="12526"/>
                </a:cubicBezTo>
                <a:cubicBezTo>
                  <a:pt x="11543" y="12518"/>
                  <a:pt x="11476" y="12510"/>
                  <a:pt x="11410" y="12502"/>
                </a:cubicBezTo>
              </a:path>
              <a:path w="2382" h="5160">
                <a:moveTo>
                  <a:pt x="10368" y="9823"/>
                </a:moveTo>
                <a:cubicBezTo>
                  <a:pt x="10451" y="9815"/>
                  <a:pt x="10516" y="9809"/>
                  <a:pt x="10592" y="9823"/>
                </a:cubicBezTo>
                <a:cubicBezTo>
                  <a:pt x="10569" y="9875"/>
                  <a:pt x="10485" y="9906"/>
                  <a:pt x="10517" y="9922"/>
                </a:cubicBezTo>
                <a:cubicBezTo>
                  <a:pt x="10786" y="10056"/>
                  <a:pt x="10714" y="10093"/>
                  <a:pt x="10492" y="10220"/>
                </a:cubicBezTo>
              </a:path>
              <a:path w="2382" h="5160">
                <a:moveTo>
                  <a:pt x="10096" y="12402"/>
                </a:moveTo>
                <a:cubicBezTo>
                  <a:pt x="10179" y="12570"/>
                  <a:pt x="10183" y="12682"/>
                  <a:pt x="10145" y="12874"/>
                </a:cubicBezTo>
              </a:path>
              <a:path w="2382" h="5160">
                <a:moveTo>
                  <a:pt x="10790" y="12427"/>
                </a:moveTo>
                <a:cubicBezTo>
                  <a:pt x="10754" y="12422"/>
                  <a:pt x="10556" y="12374"/>
                  <a:pt x="10542" y="12452"/>
                </a:cubicBezTo>
                <a:cubicBezTo>
                  <a:pt x="10542" y="12543"/>
                  <a:pt x="10542" y="12568"/>
                  <a:pt x="10542" y="12626"/>
                </a:cubicBezTo>
                <a:cubicBezTo>
                  <a:pt x="10634" y="12601"/>
                  <a:pt x="10791" y="12537"/>
                  <a:pt x="10889" y="12576"/>
                </a:cubicBezTo>
                <a:cubicBezTo>
                  <a:pt x="11132" y="12674"/>
                  <a:pt x="10759" y="12812"/>
                  <a:pt x="10716" y="12824"/>
                </a:cubicBezTo>
              </a:path>
              <a:path w="2382" h="5160">
                <a:moveTo>
                  <a:pt x="11485" y="13097"/>
                </a:moveTo>
                <a:cubicBezTo>
                  <a:pt x="11374" y="13221"/>
                  <a:pt x="11357" y="13319"/>
                  <a:pt x="11410" y="13469"/>
                </a:cubicBezTo>
                <a:cubicBezTo>
                  <a:pt x="11635" y="13389"/>
                  <a:pt x="11693" y="13357"/>
                  <a:pt x="11534" y="13171"/>
                </a:cubicBezTo>
              </a:path>
              <a:path w="2382" h="5160">
                <a:moveTo>
                  <a:pt x="11013" y="13047"/>
                </a:moveTo>
                <a:cubicBezTo>
                  <a:pt x="10848" y="13062"/>
                  <a:pt x="10770" y="13024"/>
                  <a:pt x="10740" y="13196"/>
                </a:cubicBezTo>
                <a:cubicBezTo>
                  <a:pt x="10740" y="13229"/>
                  <a:pt x="10740" y="13262"/>
                  <a:pt x="10740" y="13295"/>
                </a:cubicBezTo>
                <a:cubicBezTo>
                  <a:pt x="10853" y="13273"/>
                  <a:pt x="10998" y="13174"/>
                  <a:pt x="11088" y="13320"/>
                </a:cubicBezTo>
                <a:cubicBezTo>
                  <a:pt x="11258" y="13596"/>
                  <a:pt x="10834" y="13562"/>
                  <a:pt x="10716" y="13543"/>
                </a:cubicBezTo>
              </a:path>
              <a:path w="2382" h="5160">
                <a:moveTo>
                  <a:pt x="10542" y="9550"/>
                </a:moveTo>
                <a:cubicBezTo>
                  <a:pt x="10542" y="9784"/>
                  <a:pt x="10538" y="10011"/>
                  <a:pt x="10517" y="10244"/>
                </a:cubicBezTo>
              </a:path>
              <a:path w="2382" h="5160">
                <a:moveTo>
                  <a:pt x="10021" y="13072"/>
                </a:moveTo>
                <a:cubicBezTo>
                  <a:pt x="10135" y="13072"/>
                  <a:pt x="10232" y="13063"/>
                  <a:pt x="10344" y="13047"/>
                </a:cubicBezTo>
                <a:cubicBezTo>
                  <a:pt x="10329" y="13183"/>
                  <a:pt x="10294" y="13305"/>
                  <a:pt x="10294" y="13444"/>
                </a:cubicBezTo>
              </a:path>
              <a:path w="2382" h="5160">
                <a:moveTo>
                  <a:pt x="9823" y="13965"/>
                </a:moveTo>
                <a:cubicBezTo>
                  <a:pt x="10278" y="13989"/>
                  <a:pt x="10730" y="13933"/>
                  <a:pt x="11187" y="13915"/>
                </a:cubicBezTo>
                <a:cubicBezTo>
                  <a:pt x="11327" y="13915"/>
                  <a:pt x="11336" y="13915"/>
                  <a:pt x="11410" y="13915"/>
                </a:cubicBezTo>
              </a:path>
              <a:path w="2382" h="5160">
                <a:moveTo>
                  <a:pt x="11584" y="14114"/>
                </a:moveTo>
                <a:cubicBezTo>
                  <a:pt x="11420" y="14184"/>
                  <a:pt x="11373" y="14282"/>
                  <a:pt x="11311" y="14436"/>
                </a:cubicBezTo>
                <a:cubicBezTo>
                  <a:pt x="11434" y="14463"/>
                  <a:pt x="11713" y="14493"/>
                  <a:pt x="11633" y="14263"/>
                </a:cubicBezTo>
                <a:cubicBezTo>
                  <a:pt x="11600" y="14222"/>
                  <a:pt x="11567" y="14180"/>
                  <a:pt x="11534" y="14139"/>
                </a:cubicBezTo>
              </a:path>
              <a:path w="2382" h="5160">
                <a:moveTo>
                  <a:pt x="10939" y="14213"/>
                </a:moveTo>
                <a:cubicBezTo>
                  <a:pt x="10823" y="14376"/>
                  <a:pt x="10815" y="14390"/>
                  <a:pt x="10815" y="14585"/>
                </a:cubicBezTo>
                <a:cubicBezTo>
                  <a:pt x="11002" y="14619"/>
                  <a:pt x="11312" y="14596"/>
                  <a:pt x="11162" y="14288"/>
                </a:cubicBezTo>
                <a:cubicBezTo>
                  <a:pt x="11121" y="14246"/>
                  <a:pt x="11079" y="14205"/>
                  <a:pt x="11038" y="14163"/>
                </a:cubicBezTo>
              </a:path>
              <a:path w="2382" h="5160">
                <a:moveTo>
                  <a:pt x="10071" y="11956"/>
                </a:moveTo>
                <a:cubicBezTo>
                  <a:pt x="10049" y="12063"/>
                  <a:pt x="10041" y="12087"/>
                  <a:pt x="10046" y="12154"/>
                </a:cubicBezTo>
              </a:path>
              <a:path w="2382" h="5160">
                <a:moveTo>
                  <a:pt x="10344" y="14312"/>
                </a:moveTo>
                <a:cubicBezTo>
                  <a:pt x="10385" y="14214"/>
                  <a:pt x="10368" y="14182"/>
                  <a:pt x="10269" y="14139"/>
                </a:cubicBezTo>
                <a:cubicBezTo>
                  <a:pt x="10098" y="14064"/>
                  <a:pt x="10088" y="14279"/>
                  <a:pt x="10096" y="14387"/>
                </a:cubicBezTo>
                <a:cubicBezTo>
                  <a:pt x="10219" y="14341"/>
                  <a:pt x="10260" y="14314"/>
                  <a:pt x="10344" y="14213"/>
                </a:cubicBezTo>
                <a:cubicBezTo>
                  <a:pt x="10374" y="14410"/>
                  <a:pt x="10382" y="14513"/>
                  <a:pt x="10344" y="14709"/>
                </a:cubicBezTo>
              </a:path>
              <a:path w="2382" h="5160">
                <a:moveTo>
                  <a:pt x="10244" y="11038"/>
                </a:moveTo>
                <a:cubicBezTo>
                  <a:pt x="10342" y="11252"/>
                  <a:pt x="10406" y="11351"/>
                  <a:pt x="10666" y="11336"/>
                </a:cubicBezTo>
                <a:cubicBezTo>
                  <a:pt x="10869" y="11324"/>
                  <a:pt x="10926" y="11330"/>
                  <a:pt x="11137" y="11361"/>
                </a:cubicBezTo>
                <a:cubicBezTo>
                  <a:pt x="11328" y="11389"/>
                  <a:pt x="11670" y="11475"/>
                  <a:pt x="11782" y="11261"/>
                </a:cubicBezTo>
                <a:cubicBezTo>
                  <a:pt x="11782" y="11245"/>
                  <a:pt x="11782" y="11228"/>
                  <a:pt x="11782" y="11212"/>
                </a:cubicBezTo>
              </a:path>
              <a:path w="2382" h="5160">
                <a:moveTo>
                  <a:pt x="10592" y="14610"/>
                </a:moveTo>
                <a:cubicBezTo>
                  <a:pt x="10592" y="14618"/>
                  <a:pt x="10592" y="14627"/>
                  <a:pt x="10592" y="14635"/>
                </a:cubicBezTo>
                <a:cubicBezTo>
                  <a:pt x="10697" y="14589"/>
                  <a:pt x="10653" y="14486"/>
                  <a:pt x="10567" y="14585"/>
                </a:cubicBezTo>
                <a:cubicBezTo>
                  <a:pt x="10543" y="14633"/>
                  <a:pt x="10533" y="14650"/>
                  <a:pt x="10592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Your back yard is 30.3 meters wide and 61.28 meters long.  You decide to charge by the square meter for mowing the l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A: What is the area? 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B: Use what you know about decimal multiplication to explain how you found your answer? 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1:  PW pg. 43  7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2:  Workbook   P. 19    1-16 eve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19:06Z</dcterms:created>
  <dc:creator>ccps</dc:creator>
  <dc:description/>
  <dc:language>en-US</dc:language>
  <cp:lastModifiedBy>deanne elizabeth mcgrath</cp:lastModifiedBy>
  <dcterms:modified xsi:type="dcterms:W3CDTF">2010-12-02T18:48:08Z</dcterms:modified>
  <cp:revision>7</cp:revision>
  <dc:subject/>
  <dc:title>Slide 1</dc:title>
</cp:coreProperties>
</file>